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15.wmf" ContentType="image/x-wmf"/>
  <Override PartName="/ppt/media/image7.png" ContentType="image/png"/>
  <Override PartName="/ppt/media/image3.png" ContentType="image/png"/>
  <Override PartName="/ppt/media/image11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FB90-8AEE-4B36-8973-0C28D34A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874F-9F07-4292-ACA5-D2B4E82A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B37B-091B-4517-A132-46596D03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66A9-9E91-4A66-AF87-871A9844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A071-3706-44F3-9961-F17BE10C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402B-386E-4F0F-8547-24BE57D0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279F-DC90-4E23-B24D-A0D8A6D5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5230-219C-4DA1-8087-097978EA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AD74-6534-454B-951D-C5CC423C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8CFF-A4FD-4AB1-9348-673D0FEA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ACD1-7885-4AFD-8998-1E79E7B1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52F0-7074-4E6E-94A9-7F493419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3290-431A-48B1-AE35-34C2F22E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322B-C3D5-4750-9B8C-03FE0C84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2833-43D3-4940-98BD-6918F6F6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94D8-3FEC-4547-BE18-55AF8FB47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2FF2-F33D-47BB-A36E-BD6E5799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30A9-45B9-4F38-8959-A3C680EB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A946-A1AA-42DC-A414-6AFC0428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9856-FED3-4EB0-BA21-AE758393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A86C-46E6-4C05-B313-019A54DE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05DA-6E69-45CA-A350-357AE503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E816-AEE6-4ED6-BA42-2D898A90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159C-FD89-42A5-A128-811E439E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3219-F1E6-4131-868D-8F0400EC1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2E64-A7FB-4630-8C2E-881ED58E4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rasil.gov.br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brasil.gov.br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23800" y="2610000"/>
            <a:ext cx="8336160" cy="143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Acesse o Portal do Governo Brasileir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6234120"/>
            <a:ext cx="2195640" cy="623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400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3000" y="5086440"/>
            <a:ext cx="485640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uciano Meneses Cardoso da Silva, D.E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rente de Outo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pecialista em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rcRect l="1091" t="987" r="77467" b="92287"/>
          <a:stretch/>
        </p:blipFill>
        <p:spPr>
          <a:xfrm>
            <a:off x="34920" y="0"/>
            <a:ext cx="5724360" cy="2492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41120" y="4221000"/>
            <a:ext cx="44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oão Pessoa – PB, 21 de novembro de 20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83240" y="2062080"/>
            <a:ext cx="14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PO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52520" y="2286000"/>
            <a:ext cx="6553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Formulação</a:t>
            </a:r>
            <a:br>
              <a:rPr sz="9600"/>
            </a:b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Matemátic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905120" y="2011320"/>
                <a:ext cx="558144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mistur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Q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87" name=""/>
          <p:cNvGraphicFramePr/>
          <p:nvPr/>
        </p:nvGraphicFramePr>
        <p:xfrm>
          <a:off x="0" y="3657600"/>
          <a:ext cx="9144000" cy="289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657600"/>
                    <a:ext cx="914400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091600" y="1192320"/>
            <a:ext cx="53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quação de mistura compl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611440" y="1962000"/>
                <a:ext cx="47196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Qdi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ef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ef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perm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perm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na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92" name=""/>
          <p:cNvGraphicFramePr/>
          <p:nvPr/>
        </p:nvGraphicFramePr>
        <p:xfrm>
          <a:off x="266760" y="3352680"/>
          <a:ext cx="8680320" cy="285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3352680"/>
                    <a:ext cx="868032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3020400" y="1143000"/>
            <a:ext cx="36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quação de dilu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297080" y="3352680"/>
                <a:ext cx="670392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indis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Qdil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Qe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1295280" y="160020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azão Indisponí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m termos qualitativos no ponto de lançam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362320" y="10476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azões indisponív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68280" y="1793880"/>
            <a:ext cx="7497720" cy="1711440"/>
            <a:chOff x="368280" y="1793880"/>
            <a:chExt cx="7497720" cy="1711440"/>
          </a:xfrm>
        </p:grpSpPr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1125360" y="2235240"/>
                  <a:ext cx="6740640" cy="127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02" name=""/>
            <p:cNvSpPr/>
            <p:nvPr/>
          </p:nvSpPr>
          <p:spPr>
            <a:xfrm>
              <a:off x="368280" y="179388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6633"/>
                  </a:solidFill>
                  <a:latin typeface="Times New Roman"/>
                </a:rPr>
                <a:t>DB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6880" y="3848040"/>
            <a:ext cx="7369200" cy="1461960"/>
            <a:chOff x="326880" y="3848040"/>
            <a:chExt cx="7369200" cy="1461960"/>
          </a:xfrm>
        </p:grpSpPr>
        <p:sp>
          <p:nvSpPr>
            <p:cNvPr id="204" name=""/>
            <p:cNvSpPr/>
            <p:nvPr/>
          </p:nvSpPr>
          <p:spPr>
            <a:xfrm>
              <a:off x="326880" y="3848040"/>
              <a:ext cx="157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6600"/>
                  </a:solidFill>
                  <a:latin typeface="Times New Roman"/>
                </a:rPr>
                <a:t>Coliform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1219320" y="4095720"/>
                  <a:ext cx="6476760" cy="12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perm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6" name=""/>
          <p:cNvSpPr/>
          <p:nvPr/>
        </p:nvSpPr>
        <p:spPr>
          <a:xfrm>
            <a:off x="636840" y="5429160"/>
            <a:ext cx="463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Í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= ponto de lan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= qualquer ponto a jusante do lan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363240" y="1714680"/>
            <a:ext cx="7103880" cy="1828440"/>
            <a:chOff x="363240" y="1714680"/>
            <a:chExt cx="7103880" cy="1828440"/>
          </a:xfrm>
        </p:grpSpPr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1767240" y="2493000"/>
                  <a:ext cx="5699880" cy="105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0" name=""/>
            <p:cNvSpPr/>
            <p:nvPr/>
          </p:nvSpPr>
          <p:spPr>
            <a:xfrm>
              <a:off x="363240" y="171468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arâmetros conserva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08160" y="3600360"/>
            <a:ext cx="8302320" cy="1371600"/>
            <a:chOff x="308160" y="3600360"/>
            <a:chExt cx="8302320" cy="1371600"/>
          </a:xfrm>
        </p:grpSpPr>
        <p:sp>
          <p:nvSpPr>
            <p:cNvPr id="212" name=""/>
            <p:cNvSpPr/>
            <p:nvPr/>
          </p:nvSpPr>
          <p:spPr>
            <a:xfrm>
              <a:off x="308160" y="3600360"/>
              <a:ext cx="182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emperatu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762120" y="4133880"/>
                  <a:ext cx="784836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Tperm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Tma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Kr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Tempo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Tma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man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ma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4" name=""/>
          <p:cNvSpPr/>
          <p:nvPr/>
        </p:nvSpPr>
        <p:spPr>
          <a:xfrm>
            <a:off x="503280" y="5562720"/>
            <a:ext cx="463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Í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= ponto de lan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= qualquer ponto a jusante do lan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362320" y="9334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Vazões indisponív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6629400" cy="4748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78160" y="98424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âmetro Temp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44680" y="4875120"/>
            <a:ext cx="3102840" cy="398880"/>
          </a:xfrm>
          <a:prstGeom prst="wedgeRectCallout">
            <a:avLst>
              <a:gd name="adj1" fmla="val -83476"/>
              <a:gd name="adj2" fmla="val -1562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Temperatura natural da á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360520" y="6095880"/>
            <a:ext cx="3521880" cy="398880"/>
          </a:xfrm>
          <a:prstGeom prst="wedgeRectCallout">
            <a:avLst>
              <a:gd name="adj1" fmla="val -66402"/>
              <a:gd name="adj2" fmla="val -16622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Times New Roman"/>
              </a:rPr>
              <a:t>Ponto de lançamento do eflu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85160" y="1752480"/>
            <a:ext cx="4944600" cy="581400"/>
          </a:xfrm>
          <a:prstGeom prst="wedgeRectCallout">
            <a:avLst>
              <a:gd name="adj1" fmla="val -65736"/>
              <a:gd name="adj2" fmla="val 846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mperatura atingida pelo manancial no po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de lanç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00240" y="3048120"/>
            <a:ext cx="3299400" cy="703800"/>
          </a:xfrm>
          <a:prstGeom prst="wedgeRectCallout">
            <a:avLst>
              <a:gd name="adj1" fmla="val -91652"/>
              <a:gd name="adj2" fmla="val 710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Decaimento da temperatura 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Longo do 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87040" y="3643200"/>
            <a:ext cx="2000880" cy="321480"/>
            <a:chOff x="3587040" y="3643200"/>
            <a:chExt cx="2000880" cy="321480"/>
          </a:xfrm>
        </p:grpSpPr>
        <p:grpSp>
          <p:nvGrpSpPr>
            <p:cNvPr id="226" name=""/>
            <p:cNvGrpSpPr/>
            <p:nvPr/>
          </p:nvGrpSpPr>
          <p:grpSpPr>
            <a:xfrm>
              <a:off x="3587040" y="3643200"/>
              <a:ext cx="2000880" cy="305280"/>
              <a:chOff x="3587040" y="3643200"/>
              <a:chExt cx="2000880" cy="305280"/>
            </a:xfrm>
          </p:grpSpPr>
          <p:grpSp>
            <p:nvGrpSpPr>
              <p:cNvPr id="227" name=""/>
              <p:cNvGrpSpPr/>
              <p:nvPr/>
            </p:nvGrpSpPr>
            <p:grpSpPr>
              <a:xfrm>
                <a:off x="4044960" y="3828960"/>
                <a:ext cx="1542960" cy="15840"/>
                <a:chOff x="4044960" y="3828960"/>
                <a:chExt cx="1542960" cy="1584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044960" y="3828960"/>
                  <a:ext cx="11160" cy="15840"/>
                </a:xfrm>
                <a:custGeom>
                  <a:avLst/>
                  <a:gdLst/>
                  <a:ahLst/>
                  <a:rect l="l" t="t" r="r" b="b"/>
                  <a:pathLst>
                    <a:path w="7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4" y="7"/>
                      </a:lnTo>
                      <a:lnTo>
                        <a:pt x="7" y="4"/>
                      </a:lnTo>
                      <a:lnTo>
                        <a:pt x="7" y="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0719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10364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1338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1655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19724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2274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2591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9084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3210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352760" y="3828960"/>
                  <a:ext cx="1620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3848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414680" y="3828960"/>
                  <a:ext cx="1620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4467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4784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450864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5403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5720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460368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6339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6656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69728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7275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7592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4791240" y="3828960"/>
                  <a:ext cx="1404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48211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8531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88484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9150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9467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497844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86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0403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07204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10372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1339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16564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197320" y="3828960"/>
                  <a:ext cx="1440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2275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259240" y="3828960"/>
                  <a:ext cx="1620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291280" y="3828960"/>
                  <a:ext cx="14040" cy="158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32116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3532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3848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54151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54468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4784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50872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54040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7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7" y="10"/>
                      </a:lnTo>
                      <a:lnTo>
                        <a:pt x="7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572080" y="382896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6" y="0"/>
                      </a:moveTo>
                      <a:lnTo>
                        <a:pt x="3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6" y="7"/>
                      </a:lnTo>
                      <a:lnTo>
                        <a:pt x="10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"/>
              <p:cNvSpPr/>
              <p:nvPr/>
            </p:nvSpPr>
            <p:spPr>
              <a:xfrm>
                <a:off x="3587040" y="36432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"/>
            <p:cNvSpPr/>
            <p:nvPr/>
          </p:nvSpPr>
          <p:spPr>
            <a:xfrm>
              <a:off x="3733200" y="3751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90480" y="1698480"/>
            <a:ext cx="8053560" cy="3525840"/>
            <a:chOff x="690480" y="1698480"/>
            <a:chExt cx="8053560" cy="3525840"/>
          </a:xfrm>
        </p:grpSpPr>
        <p:grpSp>
          <p:nvGrpSpPr>
            <p:cNvPr id="281" name=""/>
            <p:cNvGrpSpPr/>
            <p:nvPr/>
          </p:nvGrpSpPr>
          <p:grpSpPr>
            <a:xfrm>
              <a:off x="690480" y="1698480"/>
              <a:ext cx="8053560" cy="3525840"/>
              <a:chOff x="690480" y="1698480"/>
              <a:chExt cx="8053560" cy="352584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2097000" y="4140360"/>
                <a:ext cx="6251760" cy="171360"/>
                <a:chOff x="2097000" y="4140360"/>
                <a:chExt cx="6251760" cy="17136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2097000" y="4224240"/>
                  <a:ext cx="6094440" cy="1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8182080" y="4140360"/>
                  <a:ext cx="166680" cy="171360"/>
                </a:xfrm>
                <a:custGeom>
                  <a:avLst/>
                  <a:gdLst/>
                  <a:ahLst/>
                  <a:rect l="l" t="t" r="r" b="b"/>
                  <a:pathLst>
                    <a:path w="105" h="108">
                      <a:moveTo>
                        <a:pt x="0" y="108"/>
                      </a:moveTo>
                      <a:lnTo>
                        <a:pt x="105" y="56"/>
                      </a:lnTo>
                      <a:lnTo>
                        <a:pt x="0" y="0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967200" y="1936800"/>
                <a:ext cx="171360" cy="2271600"/>
                <a:chOff x="3967200" y="1936800"/>
                <a:chExt cx="171360" cy="2271600"/>
              </a:xfrm>
            </p:grpSpPr>
            <p:sp>
              <p:nvSpPr>
                <p:cNvPr id="286" name=""/>
                <p:cNvSpPr/>
                <p:nvPr/>
              </p:nvSpPr>
              <p:spPr>
                <a:xfrm flipH="1" flipV="1">
                  <a:off x="4051080" y="2092320"/>
                  <a:ext cx="4680" cy="21160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967200" y="1936800"/>
                  <a:ext cx="171360" cy="171360"/>
                </a:xfrm>
                <a:custGeom>
                  <a:avLst/>
                  <a:gdLst/>
                  <a:ahLst/>
                  <a:rect l="l" t="t" r="r" b="b"/>
                  <a:pathLst>
                    <a:path w="108" h="108">
                      <a:moveTo>
                        <a:pt x="108" y="108"/>
                      </a:moveTo>
                      <a:lnTo>
                        <a:pt x="56" y="0"/>
                      </a:lnTo>
                      <a:lnTo>
                        <a:pt x="0" y="108"/>
                      </a:lnTo>
                      <a:lnTo>
                        <a:pt x="108" y="1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8" name=""/>
              <p:cNvSpPr/>
              <p:nvPr/>
            </p:nvSpPr>
            <p:spPr>
              <a:xfrm>
                <a:off x="4030560" y="2476440"/>
                <a:ext cx="4014720" cy="1757520"/>
              </a:xfrm>
              <a:custGeom>
                <a:avLst/>
                <a:gdLst/>
                <a:ahLst/>
                <a:rect l="l" t="t" r="r" b="b"/>
                <a:pathLst>
                  <a:path w="2529" h="1107">
                    <a:moveTo>
                      <a:pt x="26" y="0"/>
                    </a:moveTo>
                    <a:lnTo>
                      <a:pt x="0" y="7"/>
                    </a:lnTo>
                    <a:lnTo>
                      <a:pt x="32" y="131"/>
                    </a:lnTo>
                    <a:lnTo>
                      <a:pt x="52" y="193"/>
                    </a:lnTo>
                    <a:lnTo>
                      <a:pt x="75" y="255"/>
                    </a:lnTo>
                    <a:lnTo>
                      <a:pt x="82" y="265"/>
                    </a:lnTo>
                    <a:lnTo>
                      <a:pt x="111" y="327"/>
                    </a:lnTo>
                    <a:lnTo>
                      <a:pt x="147" y="385"/>
                    </a:lnTo>
                    <a:lnTo>
                      <a:pt x="193" y="441"/>
                    </a:lnTo>
                    <a:lnTo>
                      <a:pt x="249" y="500"/>
                    </a:lnTo>
                    <a:lnTo>
                      <a:pt x="282" y="523"/>
                    </a:lnTo>
                    <a:lnTo>
                      <a:pt x="318" y="549"/>
                    </a:lnTo>
                    <a:lnTo>
                      <a:pt x="397" y="601"/>
                    </a:lnTo>
                    <a:lnTo>
                      <a:pt x="485" y="650"/>
                    </a:lnTo>
                    <a:lnTo>
                      <a:pt x="580" y="699"/>
                    </a:lnTo>
                    <a:lnTo>
                      <a:pt x="682" y="741"/>
                    </a:lnTo>
                    <a:lnTo>
                      <a:pt x="784" y="784"/>
                    </a:lnTo>
                    <a:lnTo>
                      <a:pt x="794" y="790"/>
                    </a:lnTo>
                    <a:lnTo>
                      <a:pt x="895" y="829"/>
                    </a:lnTo>
                    <a:lnTo>
                      <a:pt x="994" y="862"/>
                    </a:lnTo>
                    <a:lnTo>
                      <a:pt x="1099" y="895"/>
                    </a:lnTo>
                    <a:lnTo>
                      <a:pt x="1207" y="921"/>
                    </a:lnTo>
                    <a:lnTo>
                      <a:pt x="1319" y="947"/>
                    </a:lnTo>
                    <a:lnTo>
                      <a:pt x="1430" y="967"/>
                    </a:lnTo>
                    <a:lnTo>
                      <a:pt x="1538" y="986"/>
                    </a:lnTo>
                    <a:lnTo>
                      <a:pt x="1647" y="1003"/>
                    </a:lnTo>
                    <a:lnTo>
                      <a:pt x="1752" y="1019"/>
                    </a:lnTo>
                    <a:lnTo>
                      <a:pt x="1850" y="1035"/>
                    </a:lnTo>
                    <a:lnTo>
                      <a:pt x="1850" y="1019"/>
                    </a:lnTo>
                    <a:lnTo>
                      <a:pt x="1850" y="1032"/>
                    </a:lnTo>
                    <a:lnTo>
                      <a:pt x="1949" y="1048"/>
                    </a:lnTo>
                    <a:lnTo>
                      <a:pt x="2047" y="1065"/>
                    </a:lnTo>
                    <a:lnTo>
                      <a:pt x="2146" y="1078"/>
                    </a:lnTo>
                    <a:lnTo>
                      <a:pt x="2241" y="1087"/>
                    </a:lnTo>
                    <a:lnTo>
                      <a:pt x="2326" y="1097"/>
                    </a:lnTo>
                    <a:lnTo>
                      <a:pt x="2408" y="1104"/>
                    </a:lnTo>
                    <a:lnTo>
                      <a:pt x="2444" y="1104"/>
                    </a:lnTo>
                    <a:lnTo>
                      <a:pt x="2474" y="1107"/>
                    </a:lnTo>
                    <a:lnTo>
                      <a:pt x="2503" y="1107"/>
                    </a:lnTo>
                    <a:lnTo>
                      <a:pt x="2529" y="1107"/>
                    </a:lnTo>
                    <a:lnTo>
                      <a:pt x="2529" y="1078"/>
                    </a:lnTo>
                    <a:lnTo>
                      <a:pt x="2503" y="1078"/>
                    </a:lnTo>
                    <a:lnTo>
                      <a:pt x="2474" y="1078"/>
                    </a:lnTo>
                    <a:lnTo>
                      <a:pt x="2444" y="1074"/>
                    </a:lnTo>
                    <a:lnTo>
                      <a:pt x="2408" y="1074"/>
                    </a:lnTo>
                    <a:lnTo>
                      <a:pt x="2326" y="1068"/>
                    </a:lnTo>
                    <a:lnTo>
                      <a:pt x="2241" y="1058"/>
                    </a:lnTo>
                    <a:lnTo>
                      <a:pt x="2146" y="1048"/>
                    </a:lnTo>
                    <a:lnTo>
                      <a:pt x="2047" y="1035"/>
                    </a:lnTo>
                    <a:lnTo>
                      <a:pt x="1949" y="1019"/>
                    </a:lnTo>
                    <a:lnTo>
                      <a:pt x="1853" y="1006"/>
                    </a:lnTo>
                    <a:lnTo>
                      <a:pt x="1853" y="1006"/>
                    </a:lnTo>
                    <a:lnTo>
                      <a:pt x="1752" y="989"/>
                    </a:lnTo>
                    <a:lnTo>
                      <a:pt x="1647" y="973"/>
                    </a:lnTo>
                    <a:lnTo>
                      <a:pt x="1538" y="957"/>
                    </a:lnTo>
                    <a:lnTo>
                      <a:pt x="1430" y="937"/>
                    </a:lnTo>
                    <a:lnTo>
                      <a:pt x="1319" y="918"/>
                    </a:lnTo>
                    <a:lnTo>
                      <a:pt x="1207" y="892"/>
                    </a:lnTo>
                    <a:lnTo>
                      <a:pt x="1099" y="865"/>
                    </a:lnTo>
                    <a:lnTo>
                      <a:pt x="1004" y="836"/>
                    </a:lnTo>
                    <a:lnTo>
                      <a:pt x="895" y="800"/>
                    </a:lnTo>
                    <a:lnTo>
                      <a:pt x="794" y="761"/>
                    </a:lnTo>
                    <a:lnTo>
                      <a:pt x="794" y="774"/>
                    </a:lnTo>
                    <a:lnTo>
                      <a:pt x="803" y="764"/>
                    </a:lnTo>
                    <a:lnTo>
                      <a:pt x="702" y="722"/>
                    </a:lnTo>
                    <a:lnTo>
                      <a:pt x="600" y="679"/>
                    </a:lnTo>
                    <a:lnTo>
                      <a:pt x="505" y="630"/>
                    </a:lnTo>
                    <a:lnTo>
                      <a:pt x="416" y="581"/>
                    </a:lnTo>
                    <a:lnTo>
                      <a:pt x="338" y="529"/>
                    </a:lnTo>
                    <a:lnTo>
                      <a:pt x="301" y="503"/>
                    </a:lnTo>
                    <a:lnTo>
                      <a:pt x="269" y="477"/>
                    </a:lnTo>
                    <a:lnTo>
                      <a:pt x="213" y="421"/>
                    </a:lnTo>
                    <a:lnTo>
                      <a:pt x="167" y="366"/>
                    </a:lnTo>
                    <a:lnTo>
                      <a:pt x="131" y="307"/>
                    </a:lnTo>
                    <a:lnTo>
                      <a:pt x="101" y="245"/>
                    </a:lnTo>
                    <a:lnTo>
                      <a:pt x="91" y="255"/>
                    </a:lnTo>
                    <a:lnTo>
                      <a:pt x="105" y="255"/>
                    </a:lnTo>
                    <a:lnTo>
                      <a:pt x="82" y="193"/>
                    </a:lnTo>
                    <a:lnTo>
                      <a:pt x="62" y="13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3106800" y="2305080"/>
                <a:ext cx="767880" cy="322920"/>
                <a:chOff x="3106800" y="2305080"/>
                <a:chExt cx="767880" cy="3229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106800" y="2305080"/>
                  <a:ext cx="6667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Tperm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783960" y="2414520"/>
                  <a:ext cx="90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2" name=""/>
              <p:cNvSpPr/>
              <p:nvPr/>
            </p:nvSpPr>
            <p:spPr>
              <a:xfrm>
                <a:off x="7637040" y="4336920"/>
                <a:ext cx="822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recho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49920" y="1797120"/>
                <a:ext cx="18266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Times New Roman"/>
                  </a:rPr>
                  <a:t>Temperatura da água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90480" y="1698480"/>
                <a:ext cx="8053560" cy="352584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857240" y="3835440"/>
                <a:ext cx="927360" cy="38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2006640" y="3917880"/>
              <a:ext cx="582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Times New Roman"/>
                </a:rPr>
                <a:t>Tm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3601080" y="4343400"/>
            <a:ext cx="978120" cy="726120"/>
            <a:chOff x="3601080" y="4343400"/>
            <a:chExt cx="978120" cy="726120"/>
          </a:xfrm>
        </p:grpSpPr>
        <p:sp>
          <p:nvSpPr>
            <p:cNvPr id="298" name=""/>
            <p:cNvSpPr/>
            <p:nvPr/>
          </p:nvSpPr>
          <p:spPr>
            <a:xfrm>
              <a:off x="4425120" y="48560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3601080" y="4343400"/>
              <a:ext cx="978120" cy="708480"/>
              <a:chOff x="3601080" y="4343400"/>
              <a:chExt cx="978120" cy="708480"/>
            </a:xfrm>
          </p:grpSpPr>
          <p:sp>
            <p:nvSpPr>
              <p:cNvPr id="300" name=""/>
              <p:cNvSpPr/>
              <p:nvPr/>
            </p:nvSpPr>
            <p:spPr>
              <a:xfrm>
                <a:off x="4514400" y="4746600"/>
                <a:ext cx="648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" name=""/>
              <p:cNvGrpSpPr/>
              <p:nvPr/>
            </p:nvGrpSpPr>
            <p:grpSpPr>
              <a:xfrm>
                <a:off x="3601080" y="4343400"/>
                <a:ext cx="808560" cy="708480"/>
                <a:chOff x="3601080" y="4343400"/>
                <a:chExt cx="808560" cy="7084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3601080" y="4746600"/>
                  <a:ext cx="808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t-BR" sz="2000" spc="-1" strike="noStrike">
                      <a:solidFill>
                        <a:srgbClr val="000000"/>
                      </a:solidFill>
                      <a:latin typeface="Times New Roman"/>
                    </a:rPr>
                    <a:t>Qindis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3" name=""/>
                <p:cNvGrpSpPr/>
                <p:nvPr/>
              </p:nvGrpSpPr>
              <p:grpSpPr>
                <a:xfrm>
                  <a:off x="3967200" y="4343400"/>
                  <a:ext cx="171360" cy="382680"/>
                  <a:chOff x="3967200" y="4343400"/>
                  <a:chExt cx="171360" cy="38268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flipV="1">
                    <a:off x="4051440" y="4492800"/>
                    <a:ext cx="1440" cy="23328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967200" y="4343400"/>
                    <a:ext cx="171360" cy="16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04">
                        <a:moveTo>
                          <a:pt x="108" y="104"/>
                        </a:moveTo>
                        <a:lnTo>
                          <a:pt x="56" y="0"/>
                        </a:lnTo>
                        <a:lnTo>
                          <a:pt x="0" y="104"/>
                        </a:lnTo>
                        <a:lnTo>
                          <a:pt x="108" y="1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06" name=""/>
          <p:cNvGrpSpPr/>
          <p:nvPr/>
        </p:nvGrpSpPr>
        <p:grpSpPr>
          <a:xfrm>
            <a:off x="5115960" y="3828960"/>
            <a:ext cx="925200" cy="1245600"/>
            <a:chOff x="5115960" y="3828960"/>
            <a:chExt cx="925200" cy="1245600"/>
          </a:xfrm>
        </p:grpSpPr>
        <p:sp>
          <p:nvSpPr>
            <p:cNvPr id="307" name=""/>
            <p:cNvSpPr/>
            <p:nvPr/>
          </p:nvSpPr>
          <p:spPr>
            <a:xfrm>
              <a:off x="5941440" y="48610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5115960" y="3828960"/>
              <a:ext cx="822240" cy="1229400"/>
              <a:chOff x="5115960" y="3828960"/>
              <a:chExt cx="822240" cy="122940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5560920" y="3828960"/>
                <a:ext cx="15840" cy="384120"/>
                <a:chOff x="5560920" y="3828960"/>
                <a:chExt cx="15840" cy="384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560920" y="3828960"/>
                  <a:ext cx="15840" cy="11160"/>
                </a:xfrm>
                <a:custGeom>
                  <a:avLst/>
                  <a:gdLst/>
                  <a:ahLst/>
                  <a:rect l="l" t="t" r="r" b="b"/>
                  <a:pathLst>
                    <a:path w="10" h="7">
                      <a:moveTo>
                        <a:pt x="10" y="7"/>
                      </a:moveTo>
                      <a:lnTo>
                        <a:pt x="7" y="4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560920" y="3855960"/>
                  <a:ext cx="15840" cy="144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6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10" y="9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560920" y="388620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4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560920" y="391788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6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560920" y="394812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4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560920" y="397980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560920" y="4011480"/>
                  <a:ext cx="15840" cy="1440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6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10" y="9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560920" y="404172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560920" y="407340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6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60920" y="410364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4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5560920" y="413532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560920" y="4167360"/>
                  <a:ext cx="15840" cy="14040"/>
                </a:xfrm>
                <a:custGeom>
                  <a:avLst/>
                  <a:gdLst/>
                  <a:ahLst/>
                  <a:rect l="l" t="t" r="r" b="b"/>
                  <a:pathLst>
                    <a:path w="10" h="9">
                      <a:moveTo>
                        <a:pt x="10" y="6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4" y="9"/>
                      </a:lnTo>
                      <a:lnTo>
                        <a:pt x="4" y="9"/>
                      </a:lnTo>
                      <a:lnTo>
                        <a:pt x="10" y="9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5560920" y="4197240"/>
                  <a:ext cx="15840" cy="15840"/>
                </a:xfrm>
                <a:custGeom>
                  <a:avLst/>
                  <a:gdLst/>
                  <a:ahLst/>
                  <a:rect l="l" t="t" r="r" b="b"/>
                  <a:pathLst>
                    <a:path w="10" h="10">
                      <a:moveTo>
                        <a:pt x="10" y="7"/>
                      </a:moveTo>
                      <a:lnTo>
                        <a:pt x="10" y="3"/>
                      </a:lnTo>
                      <a:lnTo>
                        <a:pt x="7" y="0"/>
                      </a:lnTo>
                      <a:lnTo>
                        <a:pt x="4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10" y="10"/>
                      </a:lnTo>
                      <a:lnTo>
                        <a:pt x="10" y="7"/>
                      </a:lnTo>
                      <a:close/>
                    </a:path>
                  </a:pathLst>
                </a:custGeom>
                <a:solidFill>
                  <a:srgbClr val="969696"/>
                </a:solidFill>
                <a:ln w="9360">
                  <a:solidFill>
                    <a:srgbClr val="7777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5115960" y="4352760"/>
                <a:ext cx="822240" cy="705600"/>
                <a:chOff x="5115960" y="4352760"/>
                <a:chExt cx="822240" cy="70560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5115960" y="4753080"/>
                  <a:ext cx="822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pt-BR" sz="2000" spc="-1" strike="noStrike">
                      <a:solidFill>
                        <a:srgbClr val="ff0000"/>
                      </a:solidFill>
                      <a:latin typeface="Times New Roman"/>
                    </a:rPr>
                    <a:t>Qindisp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5" name=""/>
                <p:cNvGrpSpPr/>
                <p:nvPr/>
              </p:nvGrpSpPr>
              <p:grpSpPr>
                <a:xfrm>
                  <a:off x="5483160" y="4352760"/>
                  <a:ext cx="171360" cy="389160"/>
                  <a:chOff x="5483160" y="4352760"/>
                  <a:chExt cx="171360" cy="38916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 flipV="1">
                    <a:off x="5567400" y="4508640"/>
                    <a:ext cx="1440" cy="23328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5483160" y="4352760"/>
                    <a:ext cx="17136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08">
                        <a:moveTo>
                          <a:pt x="108" y="108"/>
                        </a:moveTo>
                        <a:lnTo>
                          <a:pt x="53" y="0"/>
                        </a:lnTo>
                        <a:lnTo>
                          <a:pt x="0" y="108"/>
                        </a:lnTo>
                        <a:lnTo>
                          <a:pt x="108" y="10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328" name=""/>
          <p:cNvGrpSpPr/>
          <p:nvPr/>
        </p:nvGrpSpPr>
        <p:grpSpPr>
          <a:xfrm>
            <a:off x="5567400" y="2855880"/>
            <a:ext cx="2246400" cy="1368360"/>
            <a:chOff x="5567400" y="2855880"/>
            <a:chExt cx="2246400" cy="1368360"/>
          </a:xfrm>
        </p:grpSpPr>
        <p:sp>
          <p:nvSpPr>
            <p:cNvPr id="329" name=""/>
            <p:cNvSpPr/>
            <p:nvPr/>
          </p:nvSpPr>
          <p:spPr>
            <a:xfrm>
              <a:off x="5567400" y="3835440"/>
              <a:ext cx="196920" cy="388800"/>
            </a:xfrm>
            <a:custGeom>
              <a:avLst/>
              <a:gdLst/>
              <a:ahLst/>
              <a:rect l="l" t="t" r="r" b="b"/>
              <a:pathLst>
                <a:path w="124" h="245">
                  <a:moveTo>
                    <a:pt x="0" y="245"/>
                  </a:moveTo>
                  <a:lnTo>
                    <a:pt x="23" y="245"/>
                  </a:lnTo>
                  <a:lnTo>
                    <a:pt x="42" y="238"/>
                  </a:lnTo>
                  <a:lnTo>
                    <a:pt x="55" y="231"/>
                  </a:lnTo>
                  <a:lnTo>
                    <a:pt x="62" y="225"/>
                  </a:lnTo>
                  <a:lnTo>
                    <a:pt x="62" y="143"/>
                  </a:lnTo>
                  <a:lnTo>
                    <a:pt x="65" y="137"/>
                  </a:lnTo>
                  <a:lnTo>
                    <a:pt x="78" y="130"/>
                  </a:lnTo>
                  <a:lnTo>
                    <a:pt x="98" y="127"/>
                  </a:lnTo>
                  <a:lnTo>
                    <a:pt x="124" y="124"/>
                  </a:lnTo>
                  <a:lnTo>
                    <a:pt x="98" y="124"/>
                  </a:lnTo>
                  <a:lnTo>
                    <a:pt x="78" y="117"/>
                  </a:lnTo>
                  <a:lnTo>
                    <a:pt x="65" y="111"/>
                  </a:lnTo>
                  <a:lnTo>
                    <a:pt x="62" y="104"/>
                  </a:lnTo>
                  <a:lnTo>
                    <a:pt x="62" y="22"/>
                  </a:lnTo>
                  <a:lnTo>
                    <a:pt x="55" y="13"/>
                  </a:lnTo>
                  <a:lnTo>
                    <a:pt x="42" y="6"/>
                  </a:lnTo>
                  <a:lnTo>
                    <a:pt x="23" y="3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5764320" y="3254400"/>
              <a:ext cx="780840" cy="777600"/>
              <a:chOff x="5764320" y="3254400"/>
              <a:chExt cx="780840" cy="777600"/>
            </a:xfrm>
          </p:grpSpPr>
          <p:sp>
            <p:nvSpPr>
              <p:cNvPr id="331" name=""/>
              <p:cNvSpPr/>
              <p:nvPr/>
            </p:nvSpPr>
            <p:spPr>
              <a:xfrm flipV="1">
                <a:off x="5764320" y="3362040"/>
                <a:ext cx="672840" cy="669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369120" y="3254400"/>
                <a:ext cx="176040" cy="181080"/>
              </a:xfrm>
              <a:custGeom>
                <a:avLst/>
                <a:gdLst/>
                <a:ahLst/>
                <a:rect l="l" t="t" r="r" b="b"/>
                <a:pathLst>
                  <a:path w="111" h="114">
                    <a:moveTo>
                      <a:pt x="75" y="114"/>
                    </a:moveTo>
                    <a:lnTo>
                      <a:pt x="111" y="0"/>
                    </a:lnTo>
                    <a:lnTo>
                      <a:pt x="0" y="39"/>
                    </a:lnTo>
                    <a:lnTo>
                      <a:pt x="75" y="1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3" name=""/>
            <p:cNvGrpSpPr/>
            <p:nvPr/>
          </p:nvGrpSpPr>
          <p:grpSpPr>
            <a:xfrm>
              <a:off x="6568920" y="2855880"/>
              <a:ext cx="1244880" cy="754560"/>
              <a:chOff x="6568920" y="2855880"/>
              <a:chExt cx="1244880" cy="754560"/>
            </a:xfrm>
          </p:grpSpPr>
          <p:sp>
            <p:nvSpPr>
              <p:cNvPr id="334" name=""/>
              <p:cNvSpPr/>
              <p:nvPr/>
            </p:nvSpPr>
            <p:spPr>
              <a:xfrm>
                <a:off x="6568920" y="3228840"/>
                <a:ext cx="1244880" cy="18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551360" y="342756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684560" y="3046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17960" y="304632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10040" y="3265560"/>
                <a:ext cx="8481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100" spc="-1" strike="noStrike">
                    <a:solidFill>
                      <a:srgbClr val="000000"/>
                    </a:solidFill>
                    <a:latin typeface="Times New Roman"/>
                  </a:rPr>
                  <a:t>Qindisp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079040" y="2884320"/>
                <a:ext cx="6087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100" spc="-1" strike="noStrike">
                    <a:solidFill>
                      <a:srgbClr val="000000"/>
                    </a:solidFill>
                    <a:latin typeface="Times New Roman"/>
                  </a:rPr>
                  <a:t>Tman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70360" y="2884320"/>
                <a:ext cx="1486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1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22800" y="2855880"/>
                <a:ext cx="8928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2" name=""/>
          <p:cNvGrpSpPr/>
          <p:nvPr/>
        </p:nvGrpSpPr>
        <p:grpSpPr>
          <a:xfrm>
            <a:off x="914400" y="2476440"/>
            <a:ext cx="2219400" cy="1731960"/>
            <a:chOff x="914400" y="2476440"/>
            <a:chExt cx="2219400" cy="1731960"/>
          </a:xfrm>
        </p:grpSpPr>
        <p:sp>
          <p:nvSpPr>
            <p:cNvPr id="343" name=""/>
            <p:cNvSpPr/>
            <p:nvPr/>
          </p:nvSpPr>
          <p:spPr>
            <a:xfrm>
              <a:off x="2878200" y="2476440"/>
              <a:ext cx="255600" cy="1731960"/>
            </a:xfrm>
            <a:custGeom>
              <a:avLst/>
              <a:gdLst/>
              <a:ahLst/>
              <a:rect l="l" t="t" r="r" b="b"/>
              <a:pathLst>
                <a:path w="161" h="1091">
                  <a:moveTo>
                    <a:pt x="161" y="0"/>
                  </a:moveTo>
                  <a:lnTo>
                    <a:pt x="145" y="3"/>
                  </a:lnTo>
                  <a:lnTo>
                    <a:pt x="128" y="7"/>
                  </a:lnTo>
                  <a:lnTo>
                    <a:pt x="102" y="26"/>
                  </a:lnTo>
                  <a:lnTo>
                    <a:pt x="86" y="56"/>
                  </a:lnTo>
                  <a:lnTo>
                    <a:pt x="82" y="72"/>
                  </a:lnTo>
                  <a:lnTo>
                    <a:pt x="79" y="92"/>
                  </a:lnTo>
                  <a:lnTo>
                    <a:pt x="79" y="454"/>
                  </a:lnTo>
                  <a:lnTo>
                    <a:pt x="73" y="490"/>
                  </a:lnTo>
                  <a:lnTo>
                    <a:pt x="56" y="519"/>
                  </a:lnTo>
                  <a:lnTo>
                    <a:pt x="33" y="539"/>
                  </a:lnTo>
                  <a:lnTo>
                    <a:pt x="17" y="542"/>
                  </a:lnTo>
                  <a:lnTo>
                    <a:pt x="0" y="545"/>
                  </a:lnTo>
                  <a:lnTo>
                    <a:pt x="17" y="549"/>
                  </a:lnTo>
                  <a:lnTo>
                    <a:pt x="33" y="552"/>
                  </a:lnTo>
                  <a:lnTo>
                    <a:pt x="56" y="572"/>
                  </a:lnTo>
                  <a:lnTo>
                    <a:pt x="73" y="601"/>
                  </a:lnTo>
                  <a:lnTo>
                    <a:pt x="79" y="637"/>
                  </a:lnTo>
                  <a:lnTo>
                    <a:pt x="79" y="999"/>
                  </a:lnTo>
                  <a:lnTo>
                    <a:pt x="82" y="1019"/>
                  </a:lnTo>
                  <a:lnTo>
                    <a:pt x="86" y="1035"/>
                  </a:lnTo>
                  <a:lnTo>
                    <a:pt x="102" y="1065"/>
                  </a:lnTo>
                  <a:lnTo>
                    <a:pt x="128" y="1084"/>
                  </a:lnTo>
                  <a:lnTo>
                    <a:pt x="145" y="1087"/>
                  </a:lnTo>
                  <a:lnTo>
                    <a:pt x="161" y="109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914400" y="2886120"/>
              <a:ext cx="2116080" cy="912600"/>
              <a:chOff x="914400" y="2886120"/>
              <a:chExt cx="2116080" cy="912600"/>
            </a:xfrm>
          </p:grpSpPr>
          <p:sp>
            <p:nvSpPr>
              <p:cNvPr id="345" name=""/>
              <p:cNvSpPr/>
              <p:nvPr/>
            </p:nvSpPr>
            <p:spPr>
              <a:xfrm>
                <a:off x="914400" y="2886120"/>
                <a:ext cx="2116080" cy="91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6" name=""/>
              <p:cNvGrpSpPr/>
              <p:nvPr/>
            </p:nvGrpSpPr>
            <p:grpSpPr>
              <a:xfrm>
                <a:off x="1104840" y="2962440"/>
                <a:ext cx="1697040" cy="743040"/>
                <a:chOff x="1104840" y="2962440"/>
                <a:chExt cx="1697040" cy="7430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1104840" y="3327480"/>
                  <a:ext cx="1697040" cy="14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312640" y="352260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2690280" y="314964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775880" y="3149640"/>
                  <a:ext cx="77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90400" y="3363840"/>
                  <a:ext cx="84816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t-BR" sz="2100" spc="-1" strike="noStrike">
                      <a:solidFill>
                        <a:srgbClr val="000000"/>
                      </a:solidFill>
                      <a:latin typeface="Times New Roman"/>
                    </a:rPr>
                    <a:t>Qindisp</a:t>
                  </a: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103840" y="2990880"/>
                  <a:ext cx="60876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t-BR" sz="2100" spc="-1" strike="noStrike">
                      <a:solidFill>
                        <a:srgbClr val="000000"/>
                      </a:solidFill>
                      <a:latin typeface="Times New Roman"/>
                    </a:rPr>
                    <a:t>Tman</a:t>
                  </a: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105560" y="2990880"/>
                  <a:ext cx="69732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pt-BR" sz="2100" spc="-1" strike="noStrike">
                      <a:solidFill>
                        <a:srgbClr val="000000"/>
                      </a:solidFill>
                      <a:latin typeface="Times New Roman"/>
                    </a:rPr>
                    <a:t>Tperm</a:t>
                  </a: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955520" y="2962440"/>
                  <a:ext cx="89280" cy="32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1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endParaRPr b="0" lang="en-US" sz="2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5" name=""/>
          <p:cNvSpPr/>
          <p:nvPr/>
        </p:nvSpPr>
        <p:spPr>
          <a:xfrm>
            <a:off x="2378160" y="98424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âmetro Temp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237960" y="5675400"/>
                <a:ext cx="34959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per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a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indis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an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indis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57" name=""/>
          <p:cNvGrpSpPr/>
          <p:nvPr/>
        </p:nvGrpSpPr>
        <p:grpSpPr>
          <a:xfrm>
            <a:off x="3949560" y="5662440"/>
            <a:ext cx="4735800" cy="806760"/>
            <a:chOff x="3949560" y="5662440"/>
            <a:chExt cx="4735800" cy="806760"/>
          </a:xfrm>
        </p:grpSpPr>
        <mc:AlternateContent>
          <mc:Choice xmlns:a14="http://schemas.microsoft.com/office/drawing/2010/main" Requires="a14">
            <p:sp>
              <p:nvSpPr>
                <p:cNvPr id="358" name=""/>
                <p:cNvSpPr txBox="1"/>
                <p:nvPr/>
              </p:nvSpPr>
              <p:spPr>
                <a:xfrm>
                  <a:off x="4635360" y="5662440"/>
                  <a:ext cx="4050000" cy="80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indis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man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ma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9" name=""/>
            <p:cNvSpPr/>
            <p:nvPr/>
          </p:nvSpPr>
          <p:spPr>
            <a:xfrm>
              <a:off x="3949560" y="6064200"/>
              <a:ext cx="533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3598920" y="2352600"/>
            <a:ext cx="5519520" cy="4134240"/>
            <a:chOff x="3598920" y="2352600"/>
            <a:chExt cx="5519520" cy="4134240"/>
          </a:xfrm>
        </p:grpSpPr>
        <p:pic>
          <p:nvPicPr>
            <p:cNvPr id="361" name="" descr=""/>
            <p:cNvPicPr/>
            <p:nvPr/>
          </p:nvPicPr>
          <p:blipFill>
            <a:blip r:embed="rId1"/>
            <a:stretch/>
          </p:blipFill>
          <p:spPr>
            <a:xfrm>
              <a:off x="3598920" y="2352600"/>
              <a:ext cx="5519520" cy="3867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62" name=""/>
            <p:cNvSpPr/>
            <p:nvPr/>
          </p:nvSpPr>
          <p:spPr>
            <a:xfrm>
              <a:off x="6672960" y="6210360"/>
              <a:ext cx="2337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Fonte: Thomann e Mueller, 1987)</a:t>
              </a: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57200" y="1612800"/>
                <a:ext cx="2789280" cy="11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4" name=""/>
          <p:cNvSpPr/>
          <p:nvPr/>
        </p:nvSpPr>
        <p:spPr>
          <a:xfrm>
            <a:off x="114480" y="2881440"/>
            <a:ext cx="342900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coeficiente de troc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alor (cal/cm².dia.º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Função da velocidade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vento e da temperatura 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á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= densidade da água (g/cm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p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calor específico (cal/g.º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= profundidade média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urso d’água (c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378160" y="98424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âmetro Temp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5892840"/>
            <a:ext cx="2436840" cy="510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 = 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figur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* 2,0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38720" y="3429000"/>
            <a:ext cx="18334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6172200" y="3423960"/>
            <a:ext cx="0" cy="2290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10880" y="2666880"/>
            <a:ext cx="1452240" cy="509400"/>
          </a:xfrm>
          <a:prstGeom prst="wedgeRectCallout">
            <a:avLst>
              <a:gd name="adj1" fmla="val 57805"/>
              <a:gd name="adj2" fmla="val 977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figur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2733840" y="3859920"/>
            <a:ext cx="5833800" cy="2426400"/>
            <a:chOff x="2733840" y="3859920"/>
            <a:chExt cx="5833800" cy="2426400"/>
          </a:xfrm>
        </p:grpSpPr>
        <p:sp>
          <p:nvSpPr>
            <p:cNvPr id="372" name=""/>
            <p:cNvSpPr/>
            <p:nvPr/>
          </p:nvSpPr>
          <p:spPr>
            <a:xfrm rot="5741400">
              <a:off x="3141720" y="3674520"/>
              <a:ext cx="2054160" cy="2679840"/>
            </a:xfrm>
            <a:prstGeom prst="flowChartDelay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138640" y="4609800"/>
              <a:ext cx="3429000" cy="1676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20022000">
              <a:off x="6378840" y="554292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lux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958800">
              <a:off x="3119400" y="4238280"/>
              <a:ext cx="2195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Não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iodegradáve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09680" y="876240"/>
            <a:ext cx="5943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zões indisponíveis para DQ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onservativo e não-conserva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19880" y="5429160"/>
            <a:ext cx="34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QO = Demanda Química de Oxigê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15920" y="5738760"/>
            <a:ext cx="364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BO = Demanda Bioquímica de Oxigê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11240" y="6083280"/>
            <a:ext cx="391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QO = DBO + Material nã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degradá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214080" y="1815480"/>
            <a:ext cx="2643120" cy="2432520"/>
            <a:chOff x="3214080" y="1815480"/>
            <a:chExt cx="2643120" cy="2432520"/>
          </a:xfrm>
        </p:grpSpPr>
        <p:sp>
          <p:nvSpPr>
            <p:cNvPr id="382" name=""/>
            <p:cNvSpPr/>
            <p:nvPr/>
          </p:nvSpPr>
          <p:spPr>
            <a:xfrm rot="17060400">
              <a:off x="3565440" y="1915560"/>
              <a:ext cx="1940040" cy="2232000"/>
            </a:xfrm>
            <a:prstGeom prst="flowChartDelay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869400">
              <a:off x="3674520" y="2768400"/>
              <a:ext cx="1707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DB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6479640" y="6075360"/>
            <a:ext cx="2616120" cy="67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ugestã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QO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,5 * D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45880" y="1523880"/>
            <a:ext cx="1995840" cy="2362320"/>
            <a:chOff x="245880" y="1523880"/>
            <a:chExt cx="1995840" cy="2362320"/>
          </a:xfrm>
        </p:grpSpPr>
        <p:sp>
          <p:nvSpPr>
            <p:cNvPr id="386" name=""/>
            <p:cNvSpPr/>
            <p:nvPr/>
          </p:nvSpPr>
          <p:spPr>
            <a:xfrm>
              <a:off x="262080" y="1523880"/>
              <a:ext cx="1904760" cy="2362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5880" y="2054160"/>
              <a:ext cx="1995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b2b2b2"/>
                  </a:solidFill>
                  <a:latin typeface="Times New Roman"/>
                </a:rPr>
                <a:t>DQO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262080" y="1905120"/>
            <a:ext cx="1888920" cy="1489320"/>
            <a:chOff x="262080" y="1905120"/>
            <a:chExt cx="1888920" cy="1489320"/>
          </a:xfrm>
        </p:grpSpPr>
        <p:sp>
          <p:nvSpPr>
            <p:cNvPr id="389" name=""/>
            <p:cNvSpPr/>
            <p:nvPr/>
          </p:nvSpPr>
          <p:spPr>
            <a:xfrm>
              <a:off x="262080" y="2590920"/>
              <a:ext cx="188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4960" y="19051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B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00" y="2690640"/>
              <a:ext cx="1724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Nã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33"/>
                  </a:solidFill>
                  <a:latin typeface="Times New Roman"/>
                </a:rPr>
                <a:t>biodegradáv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1900800" y="1452600"/>
            <a:ext cx="1808640" cy="368280"/>
          </a:xfrm>
          <a:prstGeom prst="wedgeRectCallout">
            <a:avLst>
              <a:gd name="adj1" fmla="val -58097"/>
              <a:gd name="adj2" fmla="val 12704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ão-conserv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369080" y="4114800"/>
            <a:ext cx="1401840" cy="368280"/>
          </a:xfrm>
          <a:prstGeom prst="wedgeRectCallout">
            <a:avLst>
              <a:gd name="adj1" fmla="val -59754"/>
              <a:gd name="adj2" fmla="val -1994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erv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lançamento de efluentes domésticos ou industriais em um rio acarreta agregação d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uen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o corpo de água recep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o exigirá do rio uma certa quantidade de água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azão de diluiçã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ara diluir os polu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azão de diluição é diretamente proporcional 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 polu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poluentes conservativos e não-conserv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endo do tipo de poluente poderá haver comprometimento da corrente de água por muitos quilô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2944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179280" y="981000"/>
            <a:ext cx="8964720" cy="5472360"/>
            <a:chOff x="179280" y="981000"/>
            <a:chExt cx="8964720" cy="5472360"/>
          </a:xfrm>
        </p:grpSpPr>
        <p:grpSp>
          <p:nvGrpSpPr>
            <p:cNvPr id="395" name=""/>
            <p:cNvGrpSpPr/>
            <p:nvPr/>
          </p:nvGrpSpPr>
          <p:grpSpPr>
            <a:xfrm>
              <a:off x="237240" y="1011240"/>
              <a:ext cx="8906040" cy="5441760"/>
              <a:chOff x="237240" y="1011240"/>
              <a:chExt cx="8906040" cy="5441760"/>
            </a:xfrm>
          </p:grpSpPr>
          <p:sp>
            <p:nvSpPr>
              <p:cNvPr id="396" name=""/>
              <p:cNvSpPr/>
              <p:nvPr/>
            </p:nvSpPr>
            <p:spPr>
              <a:xfrm>
                <a:off x="1112760" y="5866560"/>
                <a:ext cx="7171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1112760" y="1371600"/>
                <a:ext cx="0" cy="449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112760" y="2098080"/>
                <a:ext cx="3760200" cy="3197520"/>
              </a:xfrm>
              <a:custGeom>
                <a:avLst/>
                <a:gdLst/>
                <a:ahLst/>
                <a:rect l="l" t="t" r="r" b="b"/>
                <a:pathLst>
                  <a:path w="3624" h="2945">
                    <a:moveTo>
                      <a:pt x="0" y="2931"/>
                    </a:moveTo>
                    <a:cubicBezTo>
                      <a:pt x="150" y="2931"/>
                      <a:pt x="300" y="2931"/>
                      <a:pt x="540" y="2931"/>
                    </a:cubicBezTo>
                    <a:cubicBezTo>
                      <a:pt x="780" y="2931"/>
                      <a:pt x="1211" y="2945"/>
                      <a:pt x="1440" y="2931"/>
                    </a:cubicBezTo>
                    <a:cubicBezTo>
                      <a:pt x="1669" y="2917"/>
                      <a:pt x="1788" y="2914"/>
                      <a:pt x="1912" y="2846"/>
                    </a:cubicBezTo>
                    <a:cubicBezTo>
                      <a:pt x="2036" y="2778"/>
                      <a:pt x="2075" y="2792"/>
                      <a:pt x="2184" y="2520"/>
                    </a:cubicBezTo>
                    <a:cubicBezTo>
                      <a:pt x="2293" y="2248"/>
                      <a:pt x="2462" y="1603"/>
                      <a:pt x="2564" y="1216"/>
                    </a:cubicBezTo>
                    <a:cubicBezTo>
                      <a:pt x="2666" y="829"/>
                      <a:pt x="2729" y="394"/>
                      <a:pt x="2795" y="197"/>
                    </a:cubicBezTo>
                    <a:cubicBezTo>
                      <a:pt x="2861" y="0"/>
                      <a:pt x="2863" y="63"/>
                      <a:pt x="2958" y="34"/>
                    </a:cubicBezTo>
                    <a:cubicBezTo>
                      <a:pt x="3053" y="5"/>
                      <a:pt x="3255" y="23"/>
                      <a:pt x="3366" y="21"/>
                    </a:cubicBezTo>
                    <a:cubicBezTo>
                      <a:pt x="3477" y="19"/>
                      <a:pt x="3550" y="20"/>
                      <a:pt x="3624" y="21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848120" y="2153160"/>
                <a:ext cx="0" cy="58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848120" y="2739600"/>
                <a:ext cx="56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408280" y="2739600"/>
                <a:ext cx="0" cy="586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408280" y="3325680"/>
                <a:ext cx="56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968440" y="3325680"/>
                <a:ext cx="0" cy="58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968440" y="3912480"/>
                <a:ext cx="560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6523920" y="3912480"/>
                <a:ext cx="504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1109880" y="4434480"/>
                <a:ext cx="6596640" cy="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101120" y="2153160"/>
                <a:ext cx="0" cy="3713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13040" y="5851440"/>
                <a:ext cx="1307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oj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54120" y="5085000"/>
                <a:ext cx="64512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,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10560" y="4242240"/>
                <a:ext cx="560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5,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37240" y="1011240"/>
                <a:ext cx="3735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0000"/>
                    </a:solidFill>
                    <a:latin typeface="Arial"/>
                  </a:rPr>
                  <a:t>Concentração de DBO (mg/L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836120" y="5899320"/>
                <a:ext cx="1307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emp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23440" y="194256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5,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23440" y="371700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,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23440" y="313056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5,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10840" y="2544120"/>
                <a:ext cx="74700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20,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1092960" y="2134800"/>
                <a:ext cx="30628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1104120" y="2736360"/>
                <a:ext cx="3770280" cy="2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1138320" y="3322800"/>
                <a:ext cx="4334040" cy="75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 flipV="1">
                <a:off x="1146600" y="3905640"/>
                <a:ext cx="4894200" cy="288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984240" y="4048920"/>
                <a:ext cx="276192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nquadramento na Classe I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054800" y="4908960"/>
                <a:ext cx="276192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</a:rPr>
                  <a:t>Concentração natur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4463640" y="1567080"/>
                <a:ext cx="1130760" cy="46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914280" y="1223640"/>
                <a:ext cx="4295160" cy="55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>
                    <a:solidFill>
                      <a:srgbClr val="000000"/>
                    </a:solidFill>
                    <a:latin typeface="Arial"/>
                  </a:rPr>
                  <a:t>Permissão acordada no Comitê (25,0 mg/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Relaxamento do Enquadramen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342120" y="2138040"/>
                <a:ext cx="2054160" cy="11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acto de redução gradual da poluição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ermissões cada vez menor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9425000">
                <a:off x="6064920" y="1490040"/>
                <a:ext cx="294480" cy="2934720"/>
              </a:xfrm>
              <a:custGeom>
                <a:avLst/>
                <a:gdLst>
                  <a:gd name="textAreaLeft" fmla="*/ 0 w 294480"/>
                  <a:gd name="textAreaRight" fmla="*/ 106200 w 294480"/>
                  <a:gd name="textAreaTop" fmla="*/ 76320 h 2934720"/>
                  <a:gd name="textAreaBottom" fmla="*/ 2858400 h 2934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528960" y="4431240"/>
                <a:ext cx="1276200" cy="11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528960" y="4498560"/>
                <a:ext cx="0" cy="1368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041160" y="5866560"/>
                <a:ext cx="1220040" cy="39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+ N an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179280" y="981000"/>
              <a:ext cx="8964720" cy="5472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1436760" y="231840"/>
            <a:ext cx="66182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cto de Comitê para redução da polu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xempl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37880" y="6462720"/>
            <a:ext cx="898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volver: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Órgão Ambiental e de Recursos Hídricos, Comitê,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Ministério Público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547640" y="6008760"/>
            <a:ext cx="66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1547640" y="1616040"/>
            <a:ext cx="0" cy="439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979640" y="2481120"/>
            <a:ext cx="5471640" cy="2880000"/>
            <a:chOff x="1979640" y="2481120"/>
            <a:chExt cx="5471640" cy="2880000"/>
          </a:xfrm>
        </p:grpSpPr>
        <p:sp>
          <p:nvSpPr>
            <p:cNvPr id="436" name=""/>
            <p:cNvSpPr/>
            <p:nvPr/>
          </p:nvSpPr>
          <p:spPr>
            <a:xfrm flipV="1">
              <a:off x="2987640" y="4640400"/>
              <a:ext cx="0" cy="72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1979640" y="2481120"/>
              <a:ext cx="5471640" cy="2879640"/>
              <a:chOff x="1979640" y="2481120"/>
              <a:chExt cx="5471640" cy="2879640"/>
            </a:xfrm>
          </p:grpSpPr>
          <p:sp>
            <p:nvSpPr>
              <p:cNvPr id="438" name=""/>
              <p:cNvSpPr/>
              <p:nvPr/>
            </p:nvSpPr>
            <p:spPr>
              <a:xfrm>
                <a:off x="1979640" y="5360760"/>
                <a:ext cx="1007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973240" y="4641480"/>
                <a:ext cx="1007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3981240" y="3920760"/>
                <a:ext cx="0" cy="720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981240" y="3936600"/>
                <a:ext cx="1007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4989240" y="3215880"/>
                <a:ext cx="0" cy="720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974840" y="3201840"/>
                <a:ext cx="1008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5983200" y="2481120"/>
                <a:ext cx="0" cy="720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011640" y="2481120"/>
                <a:ext cx="1439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6" name=""/>
          <p:cNvSpPr/>
          <p:nvPr/>
        </p:nvSpPr>
        <p:spPr>
          <a:xfrm>
            <a:off x="1817640" y="61722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712920" y="61722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N a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0920" y="987480"/>
            <a:ext cx="36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zão indisponível (m³/s) 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brança pelo lançamento (R$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687680" y="128520"/>
            <a:ext cx="6631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ção da vazão indisponível e da cobranç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o o usuário não trate seus eflu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511160" y="1492200"/>
            <a:ext cx="423288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houver cobrança pelo lanç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efluentes (vazão indisponív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rId1" action="ppaction://hlinksldjump"/>
          </p:cNvPr>
          <p:cNvSpPr/>
          <p:nvPr/>
        </p:nvSpPr>
        <p:spPr>
          <a:xfrm>
            <a:off x="8459640" y="6237360"/>
            <a:ext cx="613080" cy="549360"/>
          </a:xfrm>
          <a:custGeom>
            <a:avLst/>
            <a:gdLst>
              <a:gd name="textAreaLeft" fmla="*/ 35280 w 613080"/>
              <a:gd name="textAreaRight" fmla="*/ 577800 w 6130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104" h="21600">
                <a:moveTo>
                  <a:pt x="0" y="0"/>
                </a:moveTo>
                <a:lnTo>
                  <a:pt x="24104" y="0"/>
                </a:lnTo>
                <a:lnTo>
                  <a:pt x="24104" y="21600"/>
                </a:lnTo>
                <a:lnTo>
                  <a:pt x="0" y="21600"/>
                </a:lnTo>
                <a:close/>
              </a:path>
              <a:path fill="lightenLess" w="24104" h="21600">
                <a:moveTo>
                  <a:pt x="0" y="0"/>
                </a:moveTo>
                <a:lnTo>
                  <a:pt x="24104" y="0"/>
                </a:lnTo>
                <a:lnTo>
                  <a:pt x="22704" y="1400"/>
                </a:lnTo>
                <a:lnTo>
                  <a:pt x="1400" y="1400"/>
                </a:lnTo>
                <a:close/>
              </a:path>
              <a:path fill="darken" w="24104" h="21600">
                <a:moveTo>
                  <a:pt x="24104" y="0"/>
                </a:moveTo>
                <a:lnTo>
                  <a:pt x="24104" y="21600"/>
                </a:lnTo>
                <a:lnTo>
                  <a:pt x="22704" y="20200"/>
                </a:lnTo>
                <a:lnTo>
                  <a:pt x="22704" y="1400"/>
                </a:lnTo>
                <a:close/>
              </a:path>
              <a:path fill="darkenLess" w="24104" h="21600">
                <a:moveTo>
                  <a:pt x="24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04" y="20200"/>
                </a:lnTo>
                <a:close/>
              </a:path>
              <a:path fill="lighten" w="24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04" h="21600">
                <a:moveTo>
                  <a:pt x="5045" y="7493"/>
                </a:moveTo>
                <a:lnTo>
                  <a:pt x="8553" y="7493"/>
                </a:lnTo>
                <a:lnTo>
                  <a:pt x="8553" y="12828"/>
                </a:lnTo>
                <a:cubicBezTo>
                  <a:pt x="8553" y="13751"/>
                  <a:pt x="9354" y="14482"/>
                  <a:pt x="10389" y="14482"/>
                </a:cubicBezTo>
                <a:lnTo>
                  <a:pt x="12052" y="14482"/>
                </a:lnTo>
                <a:cubicBezTo>
                  <a:pt x="13088" y="14482"/>
                  <a:pt x="13888" y="13751"/>
                  <a:pt x="13888" y="12828"/>
                </a:cubicBezTo>
                <a:lnTo>
                  <a:pt x="13888" y="7493"/>
                </a:lnTo>
                <a:lnTo>
                  <a:pt x="12052" y="7493"/>
                </a:lnTo>
                <a:lnTo>
                  <a:pt x="15559" y="3985"/>
                </a:lnTo>
                <a:lnTo>
                  <a:pt x="19232" y="7493"/>
                </a:lnTo>
                <a:lnTo>
                  <a:pt x="17396" y="7493"/>
                </a:lnTo>
                <a:lnTo>
                  <a:pt x="17396" y="12828"/>
                </a:lnTo>
                <a:cubicBezTo>
                  <a:pt x="17396" y="15596"/>
                  <a:pt x="14820" y="18155"/>
                  <a:pt x="12052" y="18155"/>
                </a:cubicBezTo>
                <a:lnTo>
                  <a:pt x="10389" y="18155"/>
                </a:lnTo>
                <a:cubicBezTo>
                  <a:pt x="7622" y="18155"/>
                  <a:pt x="5045" y="15596"/>
                  <a:pt x="5045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2400480" y="2637000"/>
            <a:ext cx="43988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Arial"/>
              </a:rPr>
              <a:t>Outorg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Situações clássic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1841760" y="177840"/>
            <a:ext cx="5869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acia hidrográfica hipoté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0080" y="2963880"/>
            <a:ext cx="30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052960" y="3006720"/>
            <a:ext cx="78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592440" y="1598760"/>
            <a:ext cx="30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761160" y="3959280"/>
            <a:ext cx="307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221680" y="4089240"/>
            <a:ext cx="9414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957480" y="4307040"/>
            <a:ext cx="7876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34920" y="1160640"/>
            <a:ext cx="9111240" cy="4614840"/>
            <a:chOff x="34920" y="1160640"/>
            <a:chExt cx="9111240" cy="4614840"/>
          </a:xfrm>
        </p:grpSpPr>
        <p:sp>
          <p:nvSpPr>
            <p:cNvPr id="461" name=""/>
            <p:cNvSpPr/>
            <p:nvPr/>
          </p:nvSpPr>
          <p:spPr>
            <a:xfrm>
              <a:off x="8275320" y="4106880"/>
              <a:ext cx="419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Ri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275680" y="4843440"/>
              <a:ext cx="6224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Lag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34920" y="1160640"/>
              <a:ext cx="9111240" cy="4614840"/>
              <a:chOff x="34920" y="1160640"/>
              <a:chExt cx="9111240" cy="4614840"/>
            </a:xfrm>
          </p:grpSpPr>
          <p:sp>
            <p:nvSpPr>
              <p:cNvPr id="464" name=""/>
              <p:cNvSpPr/>
              <p:nvPr/>
            </p:nvSpPr>
            <p:spPr>
              <a:xfrm>
                <a:off x="34920" y="1897200"/>
                <a:ext cx="7664400" cy="2946240"/>
              </a:xfrm>
              <a:custGeom>
                <a:avLst/>
                <a:gdLst/>
                <a:ahLst/>
                <a:rect l="l" t="t" r="r" b="b"/>
                <a:pathLst>
                  <a:path w="4828" h="1856">
                    <a:moveTo>
                      <a:pt x="37" y="0"/>
                    </a:moveTo>
                    <a:lnTo>
                      <a:pt x="0" y="41"/>
                    </a:lnTo>
                    <a:lnTo>
                      <a:pt x="85" y="164"/>
                    </a:lnTo>
                    <a:lnTo>
                      <a:pt x="182" y="286"/>
                    </a:lnTo>
                    <a:lnTo>
                      <a:pt x="291" y="396"/>
                    </a:lnTo>
                    <a:lnTo>
                      <a:pt x="400" y="477"/>
                    </a:lnTo>
                    <a:lnTo>
                      <a:pt x="508" y="518"/>
                    </a:lnTo>
                    <a:lnTo>
                      <a:pt x="521" y="532"/>
                    </a:lnTo>
                    <a:lnTo>
                      <a:pt x="629" y="546"/>
                    </a:lnTo>
                    <a:lnTo>
                      <a:pt x="763" y="559"/>
                    </a:lnTo>
                    <a:lnTo>
                      <a:pt x="944" y="573"/>
                    </a:lnTo>
                    <a:lnTo>
                      <a:pt x="1041" y="573"/>
                    </a:lnTo>
                    <a:lnTo>
                      <a:pt x="1053" y="573"/>
                    </a:lnTo>
                    <a:lnTo>
                      <a:pt x="1174" y="573"/>
                    </a:lnTo>
                    <a:lnTo>
                      <a:pt x="1440" y="573"/>
                    </a:lnTo>
                    <a:lnTo>
                      <a:pt x="1706" y="559"/>
                    </a:lnTo>
                    <a:lnTo>
                      <a:pt x="1694" y="532"/>
                    </a:lnTo>
                    <a:lnTo>
                      <a:pt x="1694" y="559"/>
                    </a:lnTo>
                    <a:lnTo>
                      <a:pt x="1815" y="559"/>
                    </a:lnTo>
                    <a:lnTo>
                      <a:pt x="1924" y="573"/>
                    </a:lnTo>
                    <a:lnTo>
                      <a:pt x="2106" y="600"/>
                    </a:lnTo>
                    <a:lnTo>
                      <a:pt x="2251" y="628"/>
                    </a:lnTo>
                    <a:lnTo>
                      <a:pt x="2384" y="655"/>
                    </a:lnTo>
                    <a:lnTo>
                      <a:pt x="2505" y="696"/>
                    </a:lnTo>
                    <a:lnTo>
                      <a:pt x="2602" y="750"/>
                    </a:lnTo>
                    <a:lnTo>
                      <a:pt x="2614" y="723"/>
                    </a:lnTo>
                    <a:lnTo>
                      <a:pt x="2590" y="737"/>
                    </a:lnTo>
                    <a:lnTo>
                      <a:pt x="2687" y="791"/>
                    </a:lnTo>
                    <a:lnTo>
                      <a:pt x="2856" y="928"/>
                    </a:lnTo>
                    <a:lnTo>
                      <a:pt x="2929" y="983"/>
                    </a:lnTo>
                    <a:lnTo>
                      <a:pt x="3001" y="1051"/>
                    </a:lnTo>
                    <a:lnTo>
                      <a:pt x="3062" y="1105"/>
                    </a:lnTo>
                    <a:lnTo>
                      <a:pt x="3159" y="1174"/>
                    </a:lnTo>
                    <a:lnTo>
                      <a:pt x="3267" y="1242"/>
                    </a:lnTo>
                    <a:lnTo>
                      <a:pt x="3388" y="1324"/>
                    </a:lnTo>
                    <a:lnTo>
                      <a:pt x="3522" y="1406"/>
                    </a:lnTo>
                    <a:lnTo>
                      <a:pt x="3534" y="1419"/>
                    </a:lnTo>
                    <a:lnTo>
                      <a:pt x="3691" y="1488"/>
                    </a:lnTo>
                    <a:lnTo>
                      <a:pt x="3848" y="1556"/>
                    </a:lnTo>
                    <a:lnTo>
                      <a:pt x="4030" y="1610"/>
                    </a:lnTo>
                    <a:lnTo>
                      <a:pt x="4211" y="1665"/>
                    </a:lnTo>
                    <a:lnTo>
                      <a:pt x="4369" y="1706"/>
                    </a:lnTo>
                    <a:lnTo>
                      <a:pt x="4502" y="1747"/>
                    </a:lnTo>
                    <a:lnTo>
                      <a:pt x="4635" y="1788"/>
                    </a:lnTo>
                    <a:lnTo>
                      <a:pt x="4744" y="1829"/>
                    </a:lnTo>
                    <a:lnTo>
                      <a:pt x="4780" y="1842"/>
                    </a:lnTo>
                    <a:lnTo>
                      <a:pt x="4804" y="1856"/>
                    </a:lnTo>
                    <a:lnTo>
                      <a:pt x="4828" y="1802"/>
                    </a:lnTo>
                    <a:lnTo>
                      <a:pt x="4792" y="1788"/>
                    </a:lnTo>
                    <a:lnTo>
                      <a:pt x="4756" y="1774"/>
                    </a:lnTo>
                    <a:lnTo>
                      <a:pt x="4647" y="1733"/>
                    </a:lnTo>
                    <a:lnTo>
                      <a:pt x="4514" y="1692"/>
                    </a:lnTo>
                    <a:lnTo>
                      <a:pt x="4381" y="1651"/>
                    </a:lnTo>
                    <a:lnTo>
                      <a:pt x="4223" y="1610"/>
                    </a:lnTo>
                    <a:lnTo>
                      <a:pt x="4042" y="1556"/>
                    </a:lnTo>
                    <a:lnTo>
                      <a:pt x="3860" y="1501"/>
                    </a:lnTo>
                    <a:lnTo>
                      <a:pt x="3703" y="1433"/>
                    </a:lnTo>
                    <a:lnTo>
                      <a:pt x="3546" y="1365"/>
                    </a:lnTo>
                    <a:lnTo>
                      <a:pt x="3546" y="1392"/>
                    </a:lnTo>
                    <a:lnTo>
                      <a:pt x="3558" y="1365"/>
                    </a:lnTo>
                    <a:lnTo>
                      <a:pt x="3425" y="1283"/>
                    </a:lnTo>
                    <a:lnTo>
                      <a:pt x="3304" y="1201"/>
                    </a:lnTo>
                    <a:lnTo>
                      <a:pt x="3183" y="1133"/>
                    </a:lnTo>
                    <a:lnTo>
                      <a:pt x="3098" y="1064"/>
                    </a:lnTo>
                    <a:lnTo>
                      <a:pt x="3038" y="1010"/>
                    </a:lnTo>
                    <a:lnTo>
                      <a:pt x="2965" y="942"/>
                    </a:lnTo>
                    <a:lnTo>
                      <a:pt x="2880" y="887"/>
                    </a:lnTo>
                    <a:lnTo>
                      <a:pt x="2723" y="750"/>
                    </a:lnTo>
                    <a:lnTo>
                      <a:pt x="2626" y="696"/>
                    </a:lnTo>
                    <a:lnTo>
                      <a:pt x="2614" y="696"/>
                    </a:lnTo>
                    <a:lnTo>
                      <a:pt x="2517" y="641"/>
                    </a:lnTo>
                    <a:lnTo>
                      <a:pt x="2396" y="600"/>
                    </a:lnTo>
                    <a:lnTo>
                      <a:pt x="2263" y="573"/>
                    </a:lnTo>
                    <a:lnTo>
                      <a:pt x="2118" y="546"/>
                    </a:lnTo>
                    <a:lnTo>
                      <a:pt x="1924" y="518"/>
                    </a:lnTo>
                    <a:lnTo>
                      <a:pt x="1827" y="505"/>
                    </a:lnTo>
                    <a:lnTo>
                      <a:pt x="1706" y="505"/>
                    </a:lnTo>
                    <a:lnTo>
                      <a:pt x="1694" y="505"/>
                    </a:lnTo>
                    <a:lnTo>
                      <a:pt x="1428" y="518"/>
                    </a:lnTo>
                    <a:lnTo>
                      <a:pt x="1162" y="518"/>
                    </a:lnTo>
                    <a:lnTo>
                      <a:pt x="1041" y="518"/>
                    </a:lnTo>
                    <a:lnTo>
                      <a:pt x="1053" y="546"/>
                    </a:lnTo>
                    <a:lnTo>
                      <a:pt x="1053" y="518"/>
                    </a:lnTo>
                    <a:lnTo>
                      <a:pt x="944" y="518"/>
                    </a:lnTo>
                    <a:lnTo>
                      <a:pt x="775" y="505"/>
                    </a:lnTo>
                    <a:lnTo>
                      <a:pt x="642" y="491"/>
                    </a:lnTo>
                    <a:lnTo>
                      <a:pt x="533" y="477"/>
                    </a:lnTo>
                    <a:lnTo>
                      <a:pt x="521" y="505"/>
                    </a:lnTo>
                    <a:lnTo>
                      <a:pt x="545" y="477"/>
                    </a:lnTo>
                    <a:lnTo>
                      <a:pt x="424" y="423"/>
                    </a:lnTo>
                    <a:lnTo>
                      <a:pt x="327" y="355"/>
                    </a:lnTo>
                    <a:lnTo>
                      <a:pt x="218" y="245"/>
                    </a:lnTo>
                    <a:lnTo>
                      <a:pt x="121" y="123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531880" y="1160640"/>
                <a:ext cx="1249560" cy="1753920"/>
              </a:xfrm>
              <a:custGeom>
                <a:avLst/>
                <a:gdLst/>
                <a:ahLst/>
                <a:rect l="l" t="t" r="r" b="b"/>
                <a:pathLst>
                  <a:path w="787" h="1105">
                    <a:moveTo>
                      <a:pt x="12" y="0"/>
                    </a:moveTo>
                    <a:lnTo>
                      <a:pt x="0" y="27"/>
                    </a:lnTo>
                    <a:lnTo>
                      <a:pt x="133" y="191"/>
                    </a:lnTo>
                    <a:lnTo>
                      <a:pt x="279" y="327"/>
                    </a:lnTo>
                    <a:lnTo>
                      <a:pt x="351" y="382"/>
                    </a:lnTo>
                    <a:lnTo>
                      <a:pt x="424" y="436"/>
                    </a:lnTo>
                    <a:lnTo>
                      <a:pt x="496" y="477"/>
                    </a:lnTo>
                    <a:lnTo>
                      <a:pt x="569" y="532"/>
                    </a:lnTo>
                    <a:lnTo>
                      <a:pt x="593" y="600"/>
                    </a:lnTo>
                    <a:lnTo>
                      <a:pt x="605" y="587"/>
                    </a:lnTo>
                    <a:lnTo>
                      <a:pt x="593" y="587"/>
                    </a:lnTo>
                    <a:lnTo>
                      <a:pt x="617" y="655"/>
                    </a:lnTo>
                    <a:lnTo>
                      <a:pt x="630" y="709"/>
                    </a:lnTo>
                    <a:lnTo>
                      <a:pt x="666" y="791"/>
                    </a:lnTo>
                    <a:lnTo>
                      <a:pt x="666" y="778"/>
                    </a:lnTo>
                    <a:lnTo>
                      <a:pt x="654" y="791"/>
                    </a:lnTo>
                    <a:lnTo>
                      <a:pt x="690" y="901"/>
                    </a:lnTo>
                    <a:lnTo>
                      <a:pt x="714" y="969"/>
                    </a:lnTo>
                    <a:lnTo>
                      <a:pt x="726" y="1023"/>
                    </a:lnTo>
                    <a:lnTo>
                      <a:pt x="738" y="1023"/>
                    </a:lnTo>
                    <a:lnTo>
                      <a:pt x="738" y="1051"/>
                    </a:lnTo>
                    <a:lnTo>
                      <a:pt x="751" y="1064"/>
                    </a:lnTo>
                    <a:lnTo>
                      <a:pt x="751" y="1078"/>
                    </a:lnTo>
                    <a:lnTo>
                      <a:pt x="775" y="1105"/>
                    </a:lnTo>
                    <a:lnTo>
                      <a:pt x="787" y="1078"/>
                    </a:lnTo>
                    <a:lnTo>
                      <a:pt x="763" y="1051"/>
                    </a:lnTo>
                    <a:lnTo>
                      <a:pt x="763" y="1064"/>
                    </a:lnTo>
                    <a:lnTo>
                      <a:pt x="775" y="1064"/>
                    </a:lnTo>
                    <a:lnTo>
                      <a:pt x="763" y="1051"/>
                    </a:lnTo>
                    <a:lnTo>
                      <a:pt x="751" y="1010"/>
                    </a:lnTo>
                    <a:lnTo>
                      <a:pt x="738" y="1010"/>
                    </a:lnTo>
                    <a:lnTo>
                      <a:pt x="751" y="1010"/>
                    </a:lnTo>
                    <a:lnTo>
                      <a:pt x="738" y="969"/>
                    </a:lnTo>
                    <a:lnTo>
                      <a:pt x="714" y="901"/>
                    </a:lnTo>
                    <a:lnTo>
                      <a:pt x="678" y="778"/>
                    </a:lnTo>
                    <a:lnTo>
                      <a:pt x="678" y="778"/>
                    </a:lnTo>
                    <a:lnTo>
                      <a:pt x="654" y="709"/>
                    </a:lnTo>
                    <a:lnTo>
                      <a:pt x="642" y="655"/>
                    </a:lnTo>
                    <a:lnTo>
                      <a:pt x="617" y="587"/>
                    </a:lnTo>
                    <a:lnTo>
                      <a:pt x="605" y="573"/>
                    </a:lnTo>
                    <a:lnTo>
                      <a:pt x="581" y="505"/>
                    </a:lnTo>
                    <a:lnTo>
                      <a:pt x="509" y="450"/>
                    </a:lnTo>
                    <a:lnTo>
                      <a:pt x="436" y="409"/>
                    </a:lnTo>
                    <a:lnTo>
                      <a:pt x="363" y="355"/>
                    </a:lnTo>
                    <a:lnTo>
                      <a:pt x="291" y="300"/>
                    </a:lnTo>
                    <a:lnTo>
                      <a:pt x="146" y="163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143840" y="3586320"/>
                <a:ext cx="979200" cy="2189160"/>
              </a:xfrm>
              <a:custGeom>
                <a:avLst/>
                <a:gdLst/>
                <a:ahLst/>
                <a:rect l="l" t="t" r="r" b="b"/>
                <a:pathLst>
                  <a:path w="617" h="1379">
                    <a:moveTo>
                      <a:pt x="24" y="1379"/>
                    </a:moveTo>
                    <a:lnTo>
                      <a:pt x="12" y="1365"/>
                    </a:lnTo>
                    <a:lnTo>
                      <a:pt x="0" y="1338"/>
                    </a:lnTo>
                    <a:lnTo>
                      <a:pt x="12" y="1311"/>
                    </a:lnTo>
                    <a:lnTo>
                      <a:pt x="36" y="1256"/>
                    </a:lnTo>
                    <a:lnTo>
                      <a:pt x="60" y="1215"/>
                    </a:lnTo>
                    <a:lnTo>
                      <a:pt x="84" y="1174"/>
                    </a:lnTo>
                    <a:lnTo>
                      <a:pt x="169" y="1051"/>
                    </a:lnTo>
                    <a:lnTo>
                      <a:pt x="242" y="942"/>
                    </a:lnTo>
                    <a:lnTo>
                      <a:pt x="314" y="847"/>
                    </a:lnTo>
                    <a:lnTo>
                      <a:pt x="350" y="792"/>
                    </a:lnTo>
                    <a:lnTo>
                      <a:pt x="363" y="765"/>
                    </a:lnTo>
                    <a:lnTo>
                      <a:pt x="375" y="738"/>
                    </a:lnTo>
                    <a:lnTo>
                      <a:pt x="387" y="710"/>
                    </a:lnTo>
                    <a:lnTo>
                      <a:pt x="411" y="669"/>
                    </a:lnTo>
                    <a:lnTo>
                      <a:pt x="447" y="601"/>
                    </a:lnTo>
                    <a:lnTo>
                      <a:pt x="508" y="478"/>
                    </a:lnTo>
                    <a:lnTo>
                      <a:pt x="544" y="342"/>
                    </a:lnTo>
                    <a:lnTo>
                      <a:pt x="568" y="205"/>
                    </a:lnTo>
                    <a:lnTo>
                      <a:pt x="592" y="82"/>
                    </a:lnTo>
                    <a:lnTo>
                      <a:pt x="617" y="28"/>
                    </a:lnTo>
                    <a:lnTo>
                      <a:pt x="617" y="0"/>
                    </a:lnTo>
                  </a:path>
                </a:pathLst>
              </a:custGeom>
              <a:noFill/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01840" y="2611440"/>
                <a:ext cx="307800" cy="3031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205080" y="1787760"/>
                <a:ext cx="306360" cy="30456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546960" y="4345200"/>
                <a:ext cx="307800" cy="30312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225160" y="297972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646080" y="161460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816240" y="3976920"/>
                <a:ext cx="1562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276760" y="4475160"/>
                <a:ext cx="869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Mar ou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4" name=""/>
              <p:cNvGrpSpPr/>
              <p:nvPr/>
            </p:nvGrpSpPr>
            <p:grpSpPr>
              <a:xfrm>
                <a:off x="3935520" y="3868920"/>
                <a:ext cx="1363320" cy="823680"/>
                <a:chOff x="3935520" y="3868920"/>
                <a:chExt cx="1363320" cy="8236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935520" y="3868920"/>
                  <a:ext cx="1228680" cy="758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068800" y="4497480"/>
                  <a:ext cx="230040" cy="195120"/>
                </a:xfrm>
                <a:custGeom>
                  <a:avLst/>
                  <a:gdLst/>
                  <a:ahLst/>
                  <a:rect l="l" t="t" r="r" b="b"/>
                  <a:pathLst>
                    <a:path w="145" h="123">
                      <a:moveTo>
                        <a:pt x="0" y="123"/>
                      </a:moveTo>
                      <a:lnTo>
                        <a:pt x="145" y="123"/>
                      </a:lnTo>
                      <a:lnTo>
                        <a:pt x="72" y="0"/>
                      </a:lnTo>
                      <a:lnTo>
                        <a:pt x="0" y="1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7" name=""/>
              <p:cNvSpPr/>
              <p:nvPr/>
            </p:nvSpPr>
            <p:spPr>
              <a:xfrm>
                <a:off x="4011120" y="4324320"/>
                <a:ext cx="6850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Arial"/>
                  </a:rPr>
                  <a:t>Flux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06240" y="4719600"/>
                <a:ext cx="228600" cy="228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967680" y="4640400"/>
                <a:ext cx="19591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Usuário existent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30560" y="4235400"/>
                <a:ext cx="113148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egenda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609480" y="3029040"/>
            <a:ext cx="5200200" cy="2481120"/>
            <a:chOff x="609480" y="3029040"/>
            <a:chExt cx="5200200" cy="2481120"/>
          </a:xfrm>
        </p:grpSpPr>
        <p:grpSp>
          <p:nvGrpSpPr>
            <p:cNvPr id="482" name=""/>
            <p:cNvGrpSpPr/>
            <p:nvPr/>
          </p:nvGrpSpPr>
          <p:grpSpPr>
            <a:xfrm>
              <a:off x="4937040" y="3029040"/>
              <a:ext cx="872640" cy="844560"/>
              <a:chOff x="4937040" y="3029040"/>
              <a:chExt cx="872640" cy="844560"/>
            </a:xfrm>
          </p:grpSpPr>
          <p:sp>
            <p:nvSpPr>
              <p:cNvPr id="483" name=""/>
              <p:cNvSpPr/>
              <p:nvPr/>
            </p:nvSpPr>
            <p:spPr>
              <a:xfrm>
                <a:off x="4937040" y="3570120"/>
                <a:ext cx="308160" cy="30348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110920" y="3029040"/>
                <a:ext cx="6987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Nov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609480" y="51814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62640" y="5113440"/>
              <a:ext cx="15674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uário nov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-20520" y="928800"/>
            <a:ext cx="7745400" cy="4162320"/>
          </a:xfrm>
          <a:custGeom>
            <a:avLst/>
            <a:gdLst/>
            <a:ahLst/>
            <a:rect l="l" t="t" r="r" b="b"/>
            <a:pathLst>
              <a:path w="4879" h="2622">
                <a:moveTo>
                  <a:pt x="4879" y="2398"/>
                </a:moveTo>
                <a:cubicBezTo>
                  <a:pt x="4867" y="2365"/>
                  <a:pt x="4865" y="2327"/>
                  <a:pt x="4853" y="2295"/>
                </a:cubicBezTo>
                <a:cubicBezTo>
                  <a:pt x="4829" y="2233"/>
                  <a:pt x="4756" y="2205"/>
                  <a:pt x="4716" y="2157"/>
                </a:cubicBezTo>
                <a:cubicBezTo>
                  <a:pt x="4690" y="2126"/>
                  <a:pt x="4684" y="2090"/>
                  <a:pt x="4655" y="2063"/>
                </a:cubicBezTo>
                <a:cubicBezTo>
                  <a:pt x="4638" y="2007"/>
                  <a:pt x="4592" y="1958"/>
                  <a:pt x="4561" y="1908"/>
                </a:cubicBezTo>
                <a:cubicBezTo>
                  <a:pt x="4533" y="1863"/>
                  <a:pt x="4524" y="1813"/>
                  <a:pt x="4492" y="1771"/>
                </a:cubicBezTo>
                <a:cubicBezTo>
                  <a:pt x="4467" y="1737"/>
                  <a:pt x="4426" y="1722"/>
                  <a:pt x="4397" y="1693"/>
                </a:cubicBezTo>
                <a:cubicBezTo>
                  <a:pt x="4333" y="1629"/>
                  <a:pt x="4274" y="1564"/>
                  <a:pt x="4208" y="1504"/>
                </a:cubicBezTo>
                <a:cubicBezTo>
                  <a:pt x="4157" y="1458"/>
                  <a:pt x="4120" y="1404"/>
                  <a:pt x="4079" y="1349"/>
                </a:cubicBezTo>
                <a:cubicBezTo>
                  <a:pt x="4045" y="1303"/>
                  <a:pt x="3988" y="1281"/>
                  <a:pt x="3950" y="1238"/>
                </a:cubicBezTo>
                <a:cubicBezTo>
                  <a:pt x="3864" y="1140"/>
                  <a:pt x="3764" y="1068"/>
                  <a:pt x="3658" y="997"/>
                </a:cubicBezTo>
                <a:cubicBezTo>
                  <a:pt x="3643" y="987"/>
                  <a:pt x="3629" y="974"/>
                  <a:pt x="3615" y="962"/>
                </a:cubicBezTo>
                <a:cubicBezTo>
                  <a:pt x="3603" y="951"/>
                  <a:pt x="3594" y="937"/>
                  <a:pt x="3581" y="928"/>
                </a:cubicBezTo>
                <a:cubicBezTo>
                  <a:pt x="3515" y="882"/>
                  <a:pt x="3368" y="865"/>
                  <a:pt x="3288" y="842"/>
                </a:cubicBezTo>
                <a:cubicBezTo>
                  <a:pt x="3211" y="791"/>
                  <a:pt x="3140" y="701"/>
                  <a:pt x="3048" y="679"/>
                </a:cubicBezTo>
                <a:cubicBezTo>
                  <a:pt x="2985" y="638"/>
                  <a:pt x="2967" y="570"/>
                  <a:pt x="2919" y="515"/>
                </a:cubicBezTo>
                <a:cubicBezTo>
                  <a:pt x="2882" y="473"/>
                  <a:pt x="2849" y="469"/>
                  <a:pt x="2807" y="438"/>
                </a:cubicBezTo>
                <a:cubicBezTo>
                  <a:pt x="2752" y="397"/>
                  <a:pt x="2770" y="413"/>
                  <a:pt x="2730" y="352"/>
                </a:cubicBezTo>
                <a:cubicBezTo>
                  <a:pt x="2717" y="332"/>
                  <a:pt x="2684" y="342"/>
                  <a:pt x="2661" y="335"/>
                </a:cubicBezTo>
                <a:cubicBezTo>
                  <a:pt x="2645" y="324"/>
                  <a:pt x="2625" y="320"/>
                  <a:pt x="2609" y="309"/>
                </a:cubicBezTo>
                <a:cubicBezTo>
                  <a:pt x="2599" y="302"/>
                  <a:pt x="2594" y="289"/>
                  <a:pt x="2584" y="283"/>
                </a:cubicBezTo>
                <a:cubicBezTo>
                  <a:pt x="2553" y="264"/>
                  <a:pt x="2507" y="249"/>
                  <a:pt x="2472" y="240"/>
                </a:cubicBezTo>
                <a:cubicBezTo>
                  <a:pt x="2386" y="184"/>
                  <a:pt x="2290" y="157"/>
                  <a:pt x="2188" y="146"/>
                </a:cubicBezTo>
                <a:cubicBezTo>
                  <a:pt x="2154" y="137"/>
                  <a:pt x="2119" y="130"/>
                  <a:pt x="2085" y="120"/>
                </a:cubicBezTo>
                <a:cubicBezTo>
                  <a:pt x="2055" y="111"/>
                  <a:pt x="2029" y="95"/>
                  <a:pt x="1999" y="86"/>
                </a:cubicBezTo>
                <a:cubicBezTo>
                  <a:pt x="1946" y="30"/>
                  <a:pt x="1871" y="22"/>
                  <a:pt x="1801" y="0"/>
                </a:cubicBezTo>
                <a:cubicBezTo>
                  <a:pt x="1788" y="1"/>
                  <a:pt x="1684" y="11"/>
                  <a:pt x="1664" y="17"/>
                </a:cubicBezTo>
                <a:cubicBezTo>
                  <a:pt x="1654" y="20"/>
                  <a:pt x="1648" y="33"/>
                  <a:pt x="1638" y="34"/>
                </a:cubicBezTo>
                <a:cubicBezTo>
                  <a:pt x="1570" y="42"/>
                  <a:pt x="1501" y="40"/>
                  <a:pt x="1432" y="43"/>
                </a:cubicBezTo>
                <a:cubicBezTo>
                  <a:pt x="1339" y="55"/>
                  <a:pt x="1252" y="87"/>
                  <a:pt x="1165" y="120"/>
                </a:cubicBezTo>
                <a:cubicBezTo>
                  <a:pt x="1107" y="142"/>
                  <a:pt x="1044" y="143"/>
                  <a:pt x="984" y="154"/>
                </a:cubicBezTo>
                <a:cubicBezTo>
                  <a:pt x="802" y="148"/>
                  <a:pt x="739" y="149"/>
                  <a:pt x="589" y="103"/>
                </a:cubicBezTo>
                <a:cubicBezTo>
                  <a:pt x="563" y="106"/>
                  <a:pt x="537" y="106"/>
                  <a:pt x="512" y="111"/>
                </a:cubicBezTo>
                <a:cubicBezTo>
                  <a:pt x="494" y="115"/>
                  <a:pt x="475" y="119"/>
                  <a:pt x="460" y="129"/>
                </a:cubicBezTo>
                <a:cubicBezTo>
                  <a:pt x="443" y="140"/>
                  <a:pt x="428" y="158"/>
                  <a:pt x="408" y="163"/>
                </a:cubicBezTo>
                <a:cubicBezTo>
                  <a:pt x="341" y="181"/>
                  <a:pt x="285" y="220"/>
                  <a:pt x="219" y="240"/>
                </a:cubicBezTo>
                <a:cubicBezTo>
                  <a:pt x="193" y="267"/>
                  <a:pt x="160" y="283"/>
                  <a:pt x="133" y="309"/>
                </a:cubicBezTo>
                <a:cubicBezTo>
                  <a:pt x="116" y="364"/>
                  <a:pt x="67" y="477"/>
                  <a:pt x="22" y="507"/>
                </a:cubicBezTo>
                <a:cubicBezTo>
                  <a:pt x="0" y="571"/>
                  <a:pt x="0" y="556"/>
                  <a:pt x="22" y="619"/>
                </a:cubicBezTo>
                <a:cubicBezTo>
                  <a:pt x="16" y="686"/>
                  <a:pt x="1" y="741"/>
                  <a:pt x="39" y="799"/>
                </a:cubicBezTo>
                <a:cubicBezTo>
                  <a:pt x="46" y="855"/>
                  <a:pt x="51" y="907"/>
                  <a:pt x="82" y="954"/>
                </a:cubicBezTo>
                <a:cubicBezTo>
                  <a:pt x="96" y="1010"/>
                  <a:pt x="100" y="1050"/>
                  <a:pt x="142" y="1091"/>
                </a:cubicBezTo>
                <a:cubicBezTo>
                  <a:pt x="159" y="1125"/>
                  <a:pt x="182" y="1145"/>
                  <a:pt x="202" y="1177"/>
                </a:cubicBezTo>
                <a:cubicBezTo>
                  <a:pt x="226" y="1215"/>
                  <a:pt x="257" y="1250"/>
                  <a:pt x="280" y="1289"/>
                </a:cubicBezTo>
                <a:cubicBezTo>
                  <a:pt x="288" y="1303"/>
                  <a:pt x="293" y="1320"/>
                  <a:pt x="305" y="1332"/>
                </a:cubicBezTo>
                <a:cubicBezTo>
                  <a:pt x="346" y="1373"/>
                  <a:pt x="405" y="1407"/>
                  <a:pt x="451" y="1444"/>
                </a:cubicBezTo>
                <a:cubicBezTo>
                  <a:pt x="501" y="1484"/>
                  <a:pt x="526" y="1519"/>
                  <a:pt x="589" y="1538"/>
                </a:cubicBezTo>
                <a:cubicBezTo>
                  <a:pt x="667" y="1592"/>
                  <a:pt x="767" y="1611"/>
                  <a:pt x="856" y="1642"/>
                </a:cubicBezTo>
                <a:cubicBezTo>
                  <a:pt x="885" y="1652"/>
                  <a:pt x="915" y="1659"/>
                  <a:pt x="941" y="1676"/>
                </a:cubicBezTo>
                <a:cubicBezTo>
                  <a:pt x="950" y="1682"/>
                  <a:pt x="958" y="1688"/>
                  <a:pt x="967" y="1693"/>
                </a:cubicBezTo>
                <a:cubicBezTo>
                  <a:pt x="1016" y="1718"/>
                  <a:pt x="1071" y="1728"/>
                  <a:pt x="1122" y="1745"/>
                </a:cubicBezTo>
                <a:cubicBezTo>
                  <a:pt x="1306" y="1806"/>
                  <a:pt x="1145" y="1762"/>
                  <a:pt x="1242" y="1788"/>
                </a:cubicBezTo>
                <a:cubicBezTo>
                  <a:pt x="1313" y="1840"/>
                  <a:pt x="1372" y="1894"/>
                  <a:pt x="1457" y="1917"/>
                </a:cubicBezTo>
                <a:cubicBezTo>
                  <a:pt x="1539" y="1968"/>
                  <a:pt x="1620" y="1991"/>
                  <a:pt x="1715" y="2011"/>
                </a:cubicBezTo>
                <a:cubicBezTo>
                  <a:pt x="1741" y="2016"/>
                  <a:pt x="1767" y="2022"/>
                  <a:pt x="1793" y="2028"/>
                </a:cubicBezTo>
                <a:cubicBezTo>
                  <a:pt x="1807" y="2031"/>
                  <a:pt x="1836" y="2037"/>
                  <a:pt x="1836" y="2037"/>
                </a:cubicBezTo>
                <a:cubicBezTo>
                  <a:pt x="1926" y="2082"/>
                  <a:pt x="1968" y="2149"/>
                  <a:pt x="2068" y="2175"/>
                </a:cubicBezTo>
                <a:cubicBezTo>
                  <a:pt x="2112" y="2219"/>
                  <a:pt x="2197" y="2294"/>
                  <a:pt x="2257" y="2312"/>
                </a:cubicBezTo>
                <a:cubicBezTo>
                  <a:pt x="2273" y="2364"/>
                  <a:pt x="2310" y="2371"/>
                  <a:pt x="2351" y="2398"/>
                </a:cubicBezTo>
                <a:cubicBezTo>
                  <a:pt x="2514" y="2505"/>
                  <a:pt x="2665" y="2528"/>
                  <a:pt x="2859" y="2544"/>
                </a:cubicBezTo>
                <a:cubicBezTo>
                  <a:pt x="2888" y="2549"/>
                  <a:pt x="2915" y="2565"/>
                  <a:pt x="2945" y="2570"/>
                </a:cubicBezTo>
                <a:cubicBezTo>
                  <a:pt x="2985" y="2577"/>
                  <a:pt x="3025" y="2576"/>
                  <a:pt x="3065" y="2579"/>
                </a:cubicBezTo>
                <a:cubicBezTo>
                  <a:pt x="3223" y="2572"/>
                  <a:pt x="3353" y="2558"/>
                  <a:pt x="3503" y="2527"/>
                </a:cubicBezTo>
                <a:cubicBezTo>
                  <a:pt x="3593" y="2533"/>
                  <a:pt x="3639" y="2537"/>
                  <a:pt x="3718" y="2553"/>
                </a:cubicBezTo>
                <a:cubicBezTo>
                  <a:pt x="3768" y="2563"/>
                  <a:pt x="3813" y="2587"/>
                  <a:pt x="3864" y="2596"/>
                </a:cubicBezTo>
                <a:cubicBezTo>
                  <a:pt x="3974" y="2616"/>
                  <a:pt x="4089" y="2616"/>
                  <a:pt x="4200" y="2622"/>
                </a:cubicBezTo>
                <a:cubicBezTo>
                  <a:pt x="4266" y="2619"/>
                  <a:pt x="4332" y="2619"/>
                  <a:pt x="4397" y="2613"/>
                </a:cubicBezTo>
                <a:cubicBezTo>
                  <a:pt x="4457" y="2607"/>
                  <a:pt x="4490" y="2577"/>
                  <a:pt x="4544" y="2562"/>
                </a:cubicBezTo>
                <a:cubicBezTo>
                  <a:pt x="4619" y="2541"/>
                  <a:pt x="4688" y="2541"/>
                  <a:pt x="4767" y="2536"/>
                </a:cubicBezTo>
                <a:cubicBezTo>
                  <a:pt x="4791" y="2528"/>
                  <a:pt x="4814" y="2522"/>
                  <a:pt x="4836" y="251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1769760" y="169920"/>
            <a:ext cx="6430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mandas de captação dos usuá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70080" y="2963880"/>
            <a:ext cx="30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52960" y="3006720"/>
            <a:ext cx="787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92440" y="1598760"/>
            <a:ext cx="30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761160" y="3959280"/>
            <a:ext cx="307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1680" y="4089240"/>
            <a:ext cx="9414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957480" y="4307040"/>
            <a:ext cx="7876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8160" y="1901880"/>
            <a:ext cx="7664400" cy="2946240"/>
          </a:xfrm>
          <a:custGeom>
            <a:avLst/>
            <a:gdLst/>
            <a:ahLst/>
            <a:rect l="l" t="t" r="r" b="b"/>
            <a:pathLst>
              <a:path w="4828" h="1856">
                <a:moveTo>
                  <a:pt x="37" y="0"/>
                </a:moveTo>
                <a:lnTo>
                  <a:pt x="0" y="41"/>
                </a:lnTo>
                <a:lnTo>
                  <a:pt x="85" y="164"/>
                </a:lnTo>
                <a:lnTo>
                  <a:pt x="182" y="286"/>
                </a:lnTo>
                <a:lnTo>
                  <a:pt x="291" y="396"/>
                </a:lnTo>
                <a:lnTo>
                  <a:pt x="400" y="477"/>
                </a:lnTo>
                <a:lnTo>
                  <a:pt x="508" y="518"/>
                </a:lnTo>
                <a:lnTo>
                  <a:pt x="521" y="532"/>
                </a:lnTo>
                <a:lnTo>
                  <a:pt x="629" y="546"/>
                </a:lnTo>
                <a:lnTo>
                  <a:pt x="763" y="559"/>
                </a:lnTo>
                <a:lnTo>
                  <a:pt x="944" y="573"/>
                </a:lnTo>
                <a:lnTo>
                  <a:pt x="1041" y="573"/>
                </a:lnTo>
                <a:lnTo>
                  <a:pt x="1053" y="573"/>
                </a:lnTo>
                <a:lnTo>
                  <a:pt x="1174" y="573"/>
                </a:lnTo>
                <a:lnTo>
                  <a:pt x="1440" y="573"/>
                </a:lnTo>
                <a:lnTo>
                  <a:pt x="1706" y="559"/>
                </a:lnTo>
                <a:lnTo>
                  <a:pt x="1694" y="532"/>
                </a:lnTo>
                <a:lnTo>
                  <a:pt x="1694" y="559"/>
                </a:lnTo>
                <a:lnTo>
                  <a:pt x="1815" y="559"/>
                </a:lnTo>
                <a:lnTo>
                  <a:pt x="1924" y="573"/>
                </a:lnTo>
                <a:lnTo>
                  <a:pt x="2106" y="600"/>
                </a:lnTo>
                <a:lnTo>
                  <a:pt x="2251" y="628"/>
                </a:lnTo>
                <a:lnTo>
                  <a:pt x="2384" y="655"/>
                </a:lnTo>
                <a:lnTo>
                  <a:pt x="2505" y="696"/>
                </a:lnTo>
                <a:lnTo>
                  <a:pt x="2602" y="750"/>
                </a:lnTo>
                <a:lnTo>
                  <a:pt x="2614" y="723"/>
                </a:lnTo>
                <a:lnTo>
                  <a:pt x="2590" y="737"/>
                </a:lnTo>
                <a:lnTo>
                  <a:pt x="2687" y="791"/>
                </a:lnTo>
                <a:lnTo>
                  <a:pt x="2856" y="928"/>
                </a:lnTo>
                <a:lnTo>
                  <a:pt x="2929" y="983"/>
                </a:lnTo>
                <a:lnTo>
                  <a:pt x="3001" y="1051"/>
                </a:lnTo>
                <a:lnTo>
                  <a:pt x="3062" y="1105"/>
                </a:lnTo>
                <a:lnTo>
                  <a:pt x="3159" y="1174"/>
                </a:lnTo>
                <a:lnTo>
                  <a:pt x="3267" y="1242"/>
                </a:lnTo>
                <a:lnTo>
                  <a:pt x="3388" y="1324"/>
                </a:lnTo>
                <a:lnTo>
                  <a:pt x="3522" y="1406"/>
                </a:lnTo>
                <a:lnTo>
                  <a:pt x="3534" y="1419"/>
                </a:lnTo>
                <a:lnTo>
                  <a:pt x="3691" y="1488"/>
                </a:lnTo>
                <a:lnTo>
                  <a:pt x="3848" y="1556"/>
                </a:lnTo>
                <a:lnTo>
                  <a:pt x="4030" y="1610"/>
                </a:lnTo>
                <a:lnTo>
                  <a:pt x="4211" y="1665"/>
                </a:lnTo>
                <a:lnTo>
                  <a:pt x="4369" y="1706"/>
                </a:lnTo>
                <a:lnTo>
                  <a:pt x="4502" y="1747"/>
                </a:lnTo>
                <a:lnTo>
                  <a:pt x="4635" y="1788"/>
                </a:lnTo>
                <a:lnTo>
                  <a:pt x="4744" y="1829"/>
                </a:lnTo>
                <a:lnTo>
                  <a:pt x="4780" y="1842"/>
                </a:lnTo>
                <a:lnTo>
                  <a:pt x="4804" y="1856"/>
                </a:lnTo>
                <a:lnTo>
                  <a:pt x="4828" y="1802"/>
                </a:lnTo>
                <a:lnTo>
                  <a:pt x="4792" y="1788"/>
                </a:lnTo>
                <a:lnTo>
                  <a:pt x="4756" y="1774"/>
                </a:lnTo>
                <a:lnTo>
                  <a:pt x="4647" y="1733"/>
                </a:lnTo>
                <a:lnTo>
                  <a:pt x="4514" y="1692"/>
                </a:lnTo>
                <a:lnTo>
                  <a:pt x="4381" y="1651"/>
                </a:lnTo>
                <a:lnTo>
                  <a:pt x="4223" y="1610"/>
                </a:lnTo>
                <a:lnTo>
                  <a:pt x="4042" y="1556"/>
                </a:lnTo>
                <a:lnTo>
                  <a:pt x="3860" y="1501"/>
                </a:lnTo>
                <a:lnTo>
                  <a:pt x="3703" y="1433"/>
                </a:lnTo>
                <a:lnTo>
                  <a:pt x="3546" y="1365"/>
                </a:lnTo>
                <a:lnTo>
                  <a:pt x="3546" y="1392"/>
                </a:lnTo>
                <a:lnTo>
                  <a:pt x="3558" y="1365"/>
                </a:lnTo>
                <a:lnTo>
                  <a:pt x="3425" y="1283"/>
                </a:lnTo>
                <a:lnTo>
                  <a:pt x="3304" y="1201"/>
                </a:lnTo>
                <a:lnTo>
                  <a:pt x="3183" y="1133"/>
                </a:lnTo>
                <a:lnTo>
                  <a:pt x="3098" y="1064"/>
                </a:lnTo>
                <a:lnTo>
                  <a:pt x="3038" y="1010"/>
                </a:lnTo>
                <a:lnTo>
                  <a:pt x="2965" y="942"/>
                </a:lnTo>
                <a:lnTo>
                  <a:pt x="2880" y="887"/>
                </a:lnTo>
                <a:lnTo>
                  <a:pt x="2723" y="750"/>
                </a:lnTo>
                <a:lnTo>
                  <a:pt x="2626" y="696"/>
                </a:lnTo>
                <a:lnTo>
                  <a:pt x="2614" y="696"/>
                </a:lnTo>
                <a:lnTo>
                  <a:pt x="2517" y="641"/>
                </a:lnTo>
                <a:lnTo>
                  <a:pt x="2396" y="600"/>
                </a:lnTo>
                <a:lnTo>
                  <a:pt x="2263" y="573"/>
                </a:lnTo>
                <a:lnTo>
                  <a:pt x="2118" y="546"/>
                </a:lnTo>
                <a:lnTo>
                  <a:pt x="1924" y="518"/>
                </a:lnTo>
                <a:lnTo>
                  <a:pt x="1827" y="505"/>
                </a:lnTo>
                <a:lnTo>
                  <a:pt x="1706" y="505"/>
                </a:lnTo>
                <a:lnTo>
                  <a:pt x="1694" y="505"/>
                </a:lnTo>
                <a:lnTo>
                  <a:pt x="1428" y="518"/>
                </a:lnTo>
                <a:lnTo>
                  <a:pt x="1162" y="518"/>
                </a:lnTo>
                <a:lnTo>
                  <a:pt x="1041" y="518"/>
                </a:lnTo>
                <a:lnTo>
                  <a:pt x="1053" y="546"/>
                </a:lnTo>
                <a:lnTo>
                  <a:pt x="1053" y="518"/>
                </a:lnTo>
                <a:lnTo>
                  <a:pt x="944" y="518"/>
                </a:lnTo>
                <a:lnTo>
                  <a:pt x="775" y="505"/>
                </a:lnTo>
                <a:lnTo>
                  <a:pt x="642" y="491"/>
                </a:lnTo>
                <a:lnTo>
                  <a:pt x="533" y="477"/>
                </a:lnTo>
                <a:lnTo>
                  <a:pt x="521" y="505"/>
                </a:lnTo>
                <a:lnTo>
                  <a:pt x="545" y="477"/>
                </a:lnTo>
                <a:lnTo>
                  <a:pt x="424" y="423"/>
                </a:lnTo>
                <a:lnTo>
                  <a:pt x="327" y="355"/>
                </a:lnTo>
                <a:lnTo>
                  <a:pt x="218" y="245"/>
                </a:lnTo>
                <a:lnTo>
                  <a:pt x="121" y="123"/>
                </a:lnTo>
                <a:lnTo>
                  <a:pt x="37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35120" y="1165320"/>
            <a:ext cx="1249560" cy="1753920"/>
          </a:xfrm>
          <a:custGeom>
            <a:avLst/>
            <a:gdLst/>
            <a:ahLst/>
            <a:rect l="l" t="t" r="r" b="b"/>
            <a:pathLst>
              <a:path w="787" h="1105">
                <a:moveTo>
                  <a:pt x="12" y="0"/>
                </a:moveTo>
                <a:lnTo>
                  <a:pt x="0" y="27"/>
                </a:lnTo>
                <a:lnTo>
                  <a:pt x="133" y="191"/>
                </a:lnTo>
                <a:lnTo>
                  <a:pt x="279" y="327"/>
                </a:lnTo>
                <a:lnTo>
                  <a:pt x="351" y="382"/>
                </a:lnTo>
                <a:lnTo>
                  <a:pt x="424" y="436"/>
                </a:lnTo>
                <a:lnTo>
                  <a:pt x="496" y="477"/>
                </a:lnTo>
                <a:lnTo>
                  <a:pt x="569" y="532"/>
                </a:lnTo>
                <a:lnTo>
                  <a:pt x="593" y="600"/>
                </a:lnTo>
                <a:lnTo>
                  <a:pt x="605" y="587"/>
                </a:lnTo>
                <a:lnTo>
                  <a:pt x="593" y="587"/>
                </a:lnTo>
                <a:lnTo>
                  <a:pt x="617" y="655"/>
                </a:lnTo>
                <a:lnTo>
                  <a:pt x="630" y="709"/>
                </a:lnTo>
                <a:lnTo>
                  <a:pt x="666" y="791"/>
                </a:lnTo>
                <a:lnTo>
                  <a:pt x="666" y="778"/>
                </a:lnTo>
                <a:lnTo>
                  <a:pt x="654" y="791"/>
                </a:lnTo>
                <a:lnTo>
                  <a:pt x="690" y="901"/>
                </a:lnTo>
                <a:lnTo>
                  <a:pt x="714" y="969"/>
                </a:lnTo>
                <a:lnTo>
                  <a:pt x="726" y="1023"/>
                </a:lnTo>
                <a:lnTo>
                  <a:pt x="738" y="1023"/>
                </a:lnTo>
                <a:lnTo>
                  <a:pt x="738" y="1051"/>
                </a:lnTo>
                <a:lnTo>
                  <a:pt x="751" y="1064"/>
                </a:lnTo>
                <a:lnTo>
                  <a:pt x="751" y="1078"/>
                </a:lnTo>
                <a:lnTo>
                  <a:pt x="775" y="1105"/>
                </a:lnTo>
                <a:lnTo>
                  <a:pt x="787" y="1078"/>
                </a:lnTo>
                <a:lnTo>
                  <a:pt x="763" y="1051"/>
                </a:lnTo>
                <a:lnTo>
                  <a:pt x="763" y="1064"/>
                </a:lnTo>
                <a:lnTo>
                  <a:pt x="775" y="1064"/>
                </a:lnTo>
                <a:lnTo>
                  <a:pt x="763" y="1051"/>
                </a:lnTo>
                <a:lnTo>
                  <a:pt x="751" y="1010"/>
                </a:lnTo>
                <a:lnTo>
                  <a:pt x="738" y="1010"/>
                </a:lnTo>
                <a:lnTo>
                  <a:pt x="751" y="1010"/>
                </a:lnTo>
                <a:lnTo>
                  <a:pt x="738" y="969"/>
                </a:lnTo>
                <a:lnTo>
                  <a:pt x="714" y="901"/>
                </a:lnTo>
                <a:lnTo>
                  <a:pt x="678" y="778"/>
                </a:lnTo>
                <a:lnTo>
                  <a:pt x="678" y="778"/>
                </a:lnTo>
                <a:lnTo>
                  <a:pt x="654" y="709"/>
                </a:lnTo>
                <a:lnTo>
                  <a:pt x="642" y="655"/>
                </a:lnTo>
                <a:lnTo>
                  <a:pt x="617" y="587"/>
                </a:lnTo>
                <a:lnTo>
                  <a:pt x="605" y="573"/>
                </a:lnTo>
                <a:lnTo>
                  <a:pt x="581" y="505"/>
                </a:lnTo>
                <a:lnTo>
                  <a:pt x="509" y="450"/>
                </a:lnTo>
                <a:lnTo>
                  <a:pt x="436" y="409"/>
                </a:lnTo>
                <a:lnTo>
                  <a:pt x="363" y="355"/>
                </a:lnTo>
                <a:lnTo>
                  <a:pt x="291" y="300"/>
                </a:lnTo>
                <a:lnTo>
                  <a:pt x="146" y="163"/>
                </a:lnTo>
                <a:lnTo>
                  <a:pt x="12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147080" y="3591000"/>
            <a:ext cx="979200" cy="2189160"/>
          </a:xfrm>
          <a:custGeom>
            <a:avLst/>
            <a:gdLst/>
            <a:ahLst/>
            <a:rect l="l" t="t" r="r" b="b"/>
            <a:pathLst>
              <a:path w="617" h="1379">
                <a:moveTo>
                  <a:pt x="24" y="1379"/>
                </a:moveTo>
                <a:lnTo>
                  <a:pt x="12" y="1365"/>
                </a:lnTo>
                <a:lnTo>
                  <a:pt x="0" y="1338"/>
                </a:lnTo>
                <a:lnTo>
                  <a:pt x="12" y="1311"/>
                </a:lnTo>
                <a:lnTo>
                  <a:pt x="36" y="1256"/>
                </a:lnTo>
                <a:lnTo>
                  <a:pt x="60" y="1215"/>
                </a:lnTo>
                <a:lnTo>
                  <a:pt x="84" y="1174"/>
                </a:lnTo>
                <a:lnTo>
                  <a:pt x="169" y="1051"/>
                </a:lnTo>
                <a:lnTo>
                  <a:pt x="242" y="942"/>
                </a:lnTo>
                <a:lnTo>
                  <a:pt x="314" y="847"/>
                </a:lnTo>
                <a:lnTo>
                  <a:pt x="350" y="792"/>
                </a:lnTo>
                <a:lnTo>
                  <a:pt x="363" y="765"/>
                </a:lnTo>
                <a:lnTo>
                  <a:pt x="375" y="738"/>
                </a:lnTo>
                <a:lnTo>
                  <a:pt x="387" y="710"/>
                </a:lnTo>
                <a:lnTo>
                  <a:pt x="411" y="669"/>
                </a:lnTo>
                <a:lnTo>
                  <a:pt x="447" y="601"/>
                </a:lnTo>
                <a:lnTo>
                  <a:pt x="508" y="478"/>
                </a:lnTo>
                <a:lnTo>
                  <a:pt x="544" y="342"/>
                </a:lnTo>
                <a:lnTo>
                  <a:pt x="568" y="205"/>
                </a:lnTo>
                <a:lnTo>
                  <a:pt x="592" y="82"/>
                </a:lnTo>
                <a:lnTo>
                  <a:pt x="617" y="28"/>
                </a:lnTo>
                <a:lnTo>
                  <a:pt x="617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05080" y="2616120"/>
            <a:ext cx="307800" cy="3031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208320" y="1792440"/>
            <a:ext cx="306360" cy="30456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550200" y="4349880"/>
            <a:ext cx="307800" cy="303120"/>
          </a:xfrm>
          <a:prstGeom prst="ellipse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559520" y="3019320"/>
            <a:ext cx="225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 (Qcap = 1,2 m³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643920" y="1619280"/>
            <a:ext cx="225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 (Qcap = 0,5 m³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709240" y="3809880"/>
            <a:ext cx="225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 (Qcap = 0,9 m³/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3938760" y="3873600"/>
            <a:ext cx="1363320" cy="823680"/>
            <a:chOff x="3938760" y="3873600"/>
            <a:chExt cx="1363320" cy="823680"/>
          </a:xfrm>
        </p:grpSpPr>
        <p:sp>
          <p:nvSpPr>
            <p:cNvPr id="505" name=""/>
            <p:cNvSpPr/>
            <p:nvPr/>
          </p:nvSpPr>
          <p:spPr>
            <a:xfrm>
              <a:off x="3938760" y="3873600"/>
              <a:ext cx="122868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072040" y="4502160"/>
              <a:ext cx="230040" cy="195120"/>
            </a:xfrm>
            <a:custGeom>
              <a:avLst/>
              <a:gdLst/>
              <a:ahLst/>
              <a:rect l="l" t="t" r="r" b="b"/>
              <a:pathLst>
                <a:path w="145" h="123">
                  <a:moveTo>
                    <a:pt x="0" y="123"/>
                  </a:moveTo>
                  <a:lnTo>
                    <a:pt x="145" y="123"/>
                  </a:lnTo>
                  <a:lnTo>
                    <a:pt x="72" y="0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4014360" y="4329000"/>
            <a:ext cx="68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ux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4724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970920" y="4645080"/>
            <a:ext cx="19591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ário exis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33800" y="4240080"/>
            <a:ext cx="113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en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609480" y="3029040"/>
            <a:ext cx="6457320" cy="2481120"/>
            <a:chOff x="609480" y="3029040"/>
            <a:chExt cx="6457320" cy="2481120"/>
          </a:xfrm>
        </p:grpSpPr>
        <p:grpSp>
          <p:nvGrpSpPr>
            <p:cNvPr id="512" name=""/>
            <p:cNvGrpSpPr/>
            <p:nvPr/>
          </p:nvGrpSpPr>
          <p:grpSpPr>
            <a:xfrm>
              <a:off x="4937040" y="3029040"/>
              <a:ext cx="2129760" cy="844560"/>
              <a:chOff x="4937040" y="3029040"/>
              <a:chExt cx="2129760" cy="844560"/>
            </a:xfrm>
          </p:grpSpPr>
          <p:sp>
            <p:nvSpPr>
              <p:cNvPr id="513" name=""/>
              <p:cNvSpPr/>
              <p:nvPr/>
            </p:nvSpPr>
            <p:spPr>
              <a:xfrm>
                <a:off x="4937040" y="3570120"/>
                <a:ext cx="308160" cy="303480"/>
              </a:xfrm>
              <a:prstGeom prst="ellipse">
                <a:avLst/>
              </a:prstGeom>
              <a:solidFill>
                <a:srgbClr val="ff00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106240" y="3029040"/>
                <a:ext cx="1960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000000"/>
                    </a:solidFill>
                    <a:latin typeface="Arial"/>
                  </a:rPr>
                  <a:t>Novo (Qcap = ?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609480" y="5181480"/>
              <a:ext cx="228600" cy="228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62640" y="5113440"/>
              <a:ext cx="15674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Usuário nov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522360" y="5522760"/>
            <a:ext cx="2751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Qcap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: vazão de capt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7964280" y="4444920"/>
            <a:ext cx="793080" cy="1041840"/>
            <a:chOff x="7964280" y="4444920"/>
            <a:chExt cx="793080" cy="1041840"/>
          </a:xfrm>
        </p:grpSpPr>
        <p:sp>
          <p:nvSpPr>
            <p:cNvPr id="519" name=""/>
            <p:cNvSpPr/>
            <p:nvPr/>
          </p:nvSpPr>
          <p:spPr>
            <a:xfrm>
              <a:off x="7965720" y="444492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965000" y="518148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964280" y="4813200"/>
              <a:ext cx="793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 o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-20520" y="928800"/>
            <a:ext cx="7745400" cy="4162320"/>
          </a:xfrm>
          <a:custGeom>
            <a:avLst/>
            <a:gdLst/>
            <a:ahLst/>
            <a:rect l="l" t="t" r="r" b="b"/>
            <a:pathLst>
              <a:path w="4879" h="2622">
                <a:moveTo>
                  <a:pt x="4879" y="2398"/>
                </a:moveTo>
                <a:cubicBezTo>
                  <a:pt x="4867" y="2365"/>
                  <a:pt x="4865" y="2327"/>
                  <a:pt x="4853" y="2295"/>
                </a:cubicBezTo>
                <a:cubicBezTo>
                  <a:pt x="4829" y="2233"/>
                  <a:pt x="4756" y="2205"/>
                  <a:pt x="4716" y="2157"/>
                </a:cubicBezTo>
                <a:cubicBezTo>
                  <a:pt x="4690" y="2126"/>
                  <a:pt x="4684" y="2090"/>
                  <a:pt x="4655" y="2063"/>
                </a:cubicBezTo>
                <a:cubicBezTo>
                  <a:pt x="4638" y="2007"/>
                  <a:pt x="4592" y="1958"/>
                  <a:pt x="4561" y="1908"/>
                </a:cubicBezTo>
                <a:cubicBezTo>
                  <a:pt x="4533" y="1863"/>
                  <a:pt x="4524" y="1813"/>
                  <a:pt x="4492" y="1771"/>
                </a:cubicBezTo>
                <a:cubicBezTo>
                  <a:pt x="4467" y="1737"/>
                  <a:pt x="4426" y="1722"/>
                  <a:pt x="4397" y="1693"/>
                </a:cubicBezTo>
                <a:cubicBezTo>
                  <a:pt x="4333" y="1629"/>
                  <a:pt x="4274" y="1564"/>
                  <a:pt x="4208" y="1504"/>
                </a:cubicBezTo>
                <a:cubicBezTo>
                  <a:pt x="4157" y="1458"/>
                  <a:pt x="4120" y="1404"/>
                  <a:pt x="4079" y="1349"/>
                </a:cubicBezTo>
                <a:cubicBezTo>
                  <a:pt x="4045" y="1303"/>
                  <a:pt x="3988" y="1281"/>
                  <a:pt x="3950" y="1238"/>
                </a:cubicBezTo>
                <a:cubicBezTo>
                  <a:pt x="3864" y="1140"/>
                  <a:pt x="3764" y="1068"/>
                  <a:pt x="3658" y="997"/>
                </a:cubicBezTo>
                <a:cubicBezTo>
                  <a:pt x="3643" y="987"/>
                  <a:pt x="3629" y="974"/>
                  <a:pt x="3615" y="962"/>
                </a:cubicBezTo>
                <a:cubicBezTo>
                  <a:pt x="3603" y="951"/>
                  <a:pt x="3594" y="937"/>
                  <a:pt x="3581" y="928"/>
                </a:cubicBezTo>
                <a:cubicBezTo>
                  <a:pt x="3515" y="882"/>
                  <a:pt x="3368" y="865"/>
                  <a:pt x="3288" y="842"/>
                </a:cubicBezTo>
                <a:cubicBezTo>
                  <a:pt x="3211" y="791"/>
                  <a:pt x="3140" y="701"/>
                  <a:pt x="3048" y="679"/>
                </a:cubicBezTo>
                <a:cubicBezTo>
                  <a:pt x="2985" y="638"/>
                  <a:pt x="2967" y="570"/>
                  <a:pt x="2919" y="515"/>
                </a:cubicBezTo>
                <a:cubicBezTo>
                  <a:pt x="2882" y="473"/>
                  <a:pt x="2849" y="469"/>
                  <a:pt x="2807" y="438"/>
                </a:cubicBezTo>
                <a:cubicBezTo>
                  <a:pt x="2752" y="397"/>
                  <a:pt x="2770" y="413"/>
                  <a:pt x="2730" y="352"/>
                </a:cubicBezTo>
                <a:cubicBezTo>
                  <a:pt x="2717" y="332"/>
                  <a:pt x="2684" y="342"/>
                  <a:pt x="2661" y="335"/>
                </a:cubicBezTo>
                <a:cubicBezTo>
                  <a:pt x="2645" y="324"/>
                  <a:pt x="2625" y="320"/>
                  <a:pt x="2609" y="309"/>
                </a:cubicBezTo>
                <a:cubicBezTo>
                  <a:pt x="2599" y="302"/>
                  <a:pt x="2594" y="289"/>
                  <a:pt x="2584" y="283"/>
                </a:cubicBezTo>
                <a:cubicBezTo>
                  <a:pt x="2553" y="264"/>
                  <a:pt x="2507" y="249"/>
                  <a:pt x="2472" y="240"/>
                </a:cubicBezTo>
                <a:cubicBezTo>
                  <a:pt x="2386" y="184"/>
                  <a:pt x="2290" y="157"/>
                  <a:pt x="2188" y="146"/>
                </a:cubicBezTo>
                <a:cubicBezTo>
                  <a:pt x="2154" y="137"/>
                  <a:pt x="2119" y="130"/>
                  <a:pt x="2085" y="120"/>
                </a:cubicBezTo>
                <a:cubicBezTo>
                  <a:pt x="2055" y="111"/>
                  <a:pt x="2029" y="95"/>
                  <a:pt x="1999" y="86"/>
                </a:cubicBezTo>
                <a:cubicBezTo>
                  <a:pt x="1946" y="30"/>
                  <a:pt x="1871" y="22"/>
                  <a:pt x="1801" y="0"/>
                </a:cubicBezTo>
                <a:cubicBezTo>
                  <a:pt x="1788" y="1"/>
                  <a:pt x="1684" y="11"/>
                  <a:pt x="1664" y="17"/>
                </a:cubicBezTo>
                <a:cubicBezTo>
                  <a:pt x="1654" y="20"/>
                  <a:pt x="1648" y="33"/>
                  <a:pt x="1638" y="34"/>
                </a:cubicBezTo>
                <a:cubicBezTo>
                  <a:pt x="1570" y="42"/>
                  <a:pt x="1501" y="40"/>
                  <a:pt x="1432" y="43"/>
                </a:cubicBezTo>
                <a:cubicBezTo>
                  <a:pt x="1339" y="55"/>
                  <a:pt x="1252" y="87"/>
                  <a:pt x="1165" y="120"/>
                </a:cubicBezTo>
                <a:cubicBezTo>
                  <a:pt x="1107" y="142"/>
                  <a:pt x="1044" y="143"/>
                  <a:pt x="984" y="154"/>
                </a:cubicBezTo>
                <a:cubicBezTo>
                  <a:pt x="802" y="148"/>
                  <a:pt x="739" y="149"/>
                  <a:pt x="589" y="103"/>
                </a:cubicBezTo>
                <a:cubicBezTo>
                  <a:pt x="563" y="106"/>
                  <a:pt x="537" y="106"/>
                  <a:pt x="512" y="111"/>
                </a:cubicBezTo>
                <a:cubicBezTo>
                  <a:pt x="494" y="115"/>
                  <a:pt x="475" y="119"/>
                  <a:pt x="460" y="129"/>
                </a:cubicBezTo>
                <a:cubicBezTo>
                  <a:pt x="443" y="140"/>
                  <a:pt x="428" y="158"/>
                  <a:pt x="408" y="163"/>
                </a:cubicBezTo>
                <a:cubicBezTo>
                  <a:pt x="341" y="181"/>
                  <a:pt x="285" y="220"/>
                  <a:pt x="219" y="240"/>
                </a:cubicBezTo>
                <a:cubicBezTo>
                  <a:pt x="193" y="267"/>
                  <a:pt x="160" y="283"/>
                  <a:pt x="133" y="309"/>
                </a:cubicBezTo>
                <a:cubicBezTo>
                  <a:pt x="116" y="364"/>
                  <a:pt x="67" y="477"/>
                  <a:pt x="22" y="507"/>
                </a:cubicBezTo>
                <a:cubicBezTo>
                  <a:pt x="0" y="571"/>
                  <a:pt x="0" y="556"/>
                  <a:pt x="22" y="619"/>
                </a:cubicBezTo>
                <a:cubicBezTo>
                  <a:pt x="16" y="686"/>
                  <a:pt x="1" y="741"/>
                  <a:pt x="39" y="799"/>
                </a:cubicBezTo>
                <a:cubicBezTo>
                  <a:pt x="46" y="855"/>
                  <a:pt x="51" y="907"/>
                  <a:pt x="82" y="954"/>
                </a:cubicBezTo>
                <a:cubicBezTo>
                  <a:pt x="96" y="1010"/>
                  <a:pt x="100" y="1050"/>
                  <a:pt x="142" y="1091"/>
                </a:cubicBezTo>
                <a:cubicBezTo>
                  <a:pt x="159" y="1125"/>
                  <a:pt x="182" y="1145"/>
                  <a:pt x="202" y="1177"/>
                </a:cubicBezTo>
                <a:cubicBezTo>
                  <a:pt x="226" y="1215"/>
                  <a:pt x="257" y="1250"/>
                  <a:pt x="280" y="1289"/>
                </a:cubicBezTo>
                <a:cubicBezTo>
                  <a:pt x="288" y="1303"/>
                  <a:pt x="293" y="1320"/>
                  <a:pt x="305" y="1332"/>
                </a:cubicBezTo>
                <a:cubicBezTo>
                  <a:pt x="346" y="1373"/>
                  <a:pt x="405" y="1407"/>
                  <a:pt x="451" y="1444"/>
                </a:cubicBezTo>
                <a:cubicBezTo>
                  <a:pt x="501" y="1484"/>
                  <a:pt x="526" y="1519"/>
                  <a:pt x="589" y="1538"/>
                </a:cubicBezTo>
                <a:cubicBezTo>
                  <a:pt x="667" y="1592"/>
                  <a:pt x="767" y="1611"/>
                  <a:pt x="856" y="1642"/>
                </a:cubicBezTo>
                <a:cubicBezTo>
                  <a:pt x="885" y="1652"/>
                  <a:pt x="915" y="1659"/>
                  <a:pt x="941" y="1676"/>
                </a:cubicBezTo>
                <a:cubicBezTo>
                  <a:pt x="950" y="1682"/>
                  <a:pt x="958" y="1688"/>
                  <a:pt x="967" y="1693"/>
                </a:cubicBezTo>
                <a:cubicBezTo>
                  <a:pt x="1016" y="1718"/>
                  <a:pt x="1071" y="1728"/>
                  <a:pt x="1122" y="1745"/>
                </a:cubicBezTo>
                <a:cubicBezTo>
                  <a:pt x="1306" y="1806"/>
                  <a:pt x="1145" y="1762"/>
                  <a:pt x="1242" y="1788"/>
                </a:cubicBezTo>
                <a:cubicBezTo>
                  <a:pt x="1313" y="1840"/>
                  <a:pt x="1372" y="1894"/>
                  <a:pt x="1457" y="1917"/>
                </a:cubicBezTo>
                <a:cubicBezTo>
                  <a:pt x="1539" y="1968"/>
                  <a:pt x="1620" y="1991"/>
                  <a:pt x="1715" y="2011"/>
                </a:cubicBezTo>
                <a:cubicBezTo>
                  <a:pt x="1741" y="2016"/>
                  <a:pt x="1767" y="2022"/>
                  <a:pt x="1793" y="2028"/>
                </a:cubicBezTo>
                <a:cubicBezTo>
                  <a:pt x="1807" y="2031"/>
                  <a:pt x="1836" y="2037"/>
                  <a:pt x="1836" y="2037"/>
                </a:cubicBezTo>
                <a:cubicBezTo>
                  <a:pt x="1926" y="2082"/>
                  <a:pt x="1968" y="2149"/>
                  <a:pt x="2068" y="2175"/>
                </a:cubicBezTo>
                <a:cubicBezTo>
                  <a:pt x="2112" y="2219"/>
                  <a:pt x="2197" y="2294"/>
                  <a:pt x="2257" y="2312"/>
                </a:cubicBezTo>
                <a:cubicBezTo>
                  <a:pt x="2273" y="2364"/>
                  <a:pt x="2310" y="2371"/>
                  <a:pt x="2351" y="2398"/>
                </a:cubicBezTo>
                <a:cubicBezTo>
                  <a:pt x="2514" y="2505"/>
                  <a:pt x="2665" y="2528"/>
                  <a:pt x="2859" y="2544"/>
                </a:cubicBezTo>
                <a:cubicBezTo>
                  <a:pt x="2888" y="2549"/>
                  <a:pt x="2915" y="2565"/>
                  <a:pt x="2945" y="2570"/>
                </a:cubicBezTo>
                <a:cubicBezTo>
                  <a:pt x="2985" y="2577"/>
                  <a:pt x="3025" y="2576"/>
                  <a:pt x="3065" y="2579"/>
                </a:cubicBezTo>
                <a:cubicBezTo>
                  <a:pt x="3223" y="2572"/>
                  <a:pt x="3353" y="2558"/>
                  <a:pt x="3503" y="2527"/>
                </a:cubicBezTo>
                <a:cubicBezTo>
                  <a:pt x="3593" y="2533"/>
                  <a:pt x="3639" y="2537"/>
                  <a:pt x="3718" y="2553"/>
                </a:cubicBezTo>
                <a:cubicBezTo>
                  <a:pt x="3768" y="2563"/>
                  <a:pt x="3813" y="2587"/>
                  <a:pt x="3864" y="2596"/>
                </a:cubicBezTo>
                <a:cubicBezTo>
                  <a:pt x="3974" y="2616"/>
                  <a:pt x="4089" y="2616"/>
                  <a:pt x="4200" y="2622"/>
                </a:cubicBezTo>
                <a:cubicBezTo>
                  <a:pt x="4266" y="2619"/>
                  <a:pt x="4332" y="2619"/>
                  <a:pt x="4397" y="2613"/>
                </a:cubicBezTo>
                <a:cubicBezTo>
                  <a:pt x="4457" y="2607"/>
                  <a:pt x="4490" y="2577"/>
                  <a:pt x="4544" y="2562"/>
                </a:cubicBezTo>
                <a:cubicBezTo>
                  <a:pt x="4619" y="2541"/>
                  <a:pt x="4688" y="2541"/>
                  <a:pt x="4767" y="2536"/>
                </a:cubicBezTo>
                <a:cubicBezTo>
                  <a:pt x="4791" y="2528"/>
                  <a:pt x="4814" y="2522"/>
                  <a:pt x="4836" y="251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2600" y="1901880"/>
            <a:ext cx="7664400" cy="2946240"/>
          </a:xfrm>
          <a:custGeom>
            <a:avLst/>
            <a:gdLst/>
            <a:ahLst/>
            <a:rect l="l" t="t" r="r" b="b"/>
            <a:pathLst>
              <a:path w="4828" h="1856">
                <a:moveTo>
                  <a:pt x="37" y="0"/>
                </a:moveTo>
                <a:lnTo>
                  <a:pt x="0" y="41"/>
                </a:lnTo>
                <a:lnTo>
                  <a:pt x="85" y="164"/>
                </a:lnTo>
                <a:lnTo>
                  <a:pt x="182" y="286"/>
                </a:lnTo>
                <a:lnTo>
                  <a:pt x="291" y="396"/>
                </a:lnTo>
                <a:lnTo>
                  <a:pt x="400" y="477"/>
                </a:lnTo>
                <a:lnTo>
                  <a:pt x="508" y="518"/>
                </a:lnTo>
                <a:lnTo>
                  <a:pt x="521" y="532"/>
                </a:lnTo>
                <a:lnTo>
                  <a:pt x="629" y="546"/>
                </a:lnTo>
                <a:lnTo>
                  <a:pt x="763" y="559"/>
                </a:lnTo>
                <a:lnTo>
                  <a:pt x="944" y="573"/>
                </a:lnTo>
                <a:lnTo>
                  <a:pt x="1041" y="573"/>
                </a:lnTo>
                <a:lnTo>
                  <a:pt x="1053" y="573"/>
                </a:lnTo>
                <a:lnTo>
                  <a:pt x="1174" y="573"/>
                </a:lnTo>
                <a:lnTo>
                  <a:pt x="1440" y="573"/>
                </a:lnTo>
                <a:lnTo>
                  <a:pt x="1706" y="559"/>
                </a:lnTo>
                <a:lnTo>
                  <a:pt x="1694" y="532"/>
                </a:lnTo>
                <a:lnTo>
                  <a:pt x="1694" y="559"/>
                </a:lnTo>
                <a:lnTo>
                  <a:pt x="1815" y="559"/>
                </a:lnTo>
                <a:lnTo>
                  <a:pt x="1924" y="573"/>
                </a:lnTo>
                <a:lnTo>
                  <a:pt x="2106" y="600"/>
                </a:lnTo>
                <a:lnTo>
                  <a:pt x="2251" y="628"/>
                </a:lnTo>
                <a:lnTo>
                  <a:pt x="2384" y="655"/>
                </a:lnTo>
                <a:lnTo>
                  <a:pt x="2505" y="696"/>
                </a:lnTo>
                <a:lnTo>
                  <a:pt x="2602" y="750"/>
                </a:lnTo>
                <a:lnTo>
                  <a:pt x="2614" y="723"/>
                </a:lnTo>
                <a:lnTo>
                  <a:pt x="2590" y="737"/>
                </a:lnTo>
                <a:lnTo>
                  <a:pt x="2687" y="791"/>
                </a:lnTo>
                <a:lnTo>
                  <a:pt x="2856" y="928"/>
                </a:lnTo>
                <a:lnTo>
                  <a:pt x="2929" y="983"/>
                </a:lnTo>
                <a:lnTo>
                  <a:pt x="3001" y="1051"/>
                </a:lnTo>
                <a:lnTo>
                  <a:pt x="3062" y="1105"/>
                </a:lnTo>
                <a:lnTo>
                  <a:pt x="3159" y="1174"/>
                </a:lnTo>
                <a:lnTo>
                  <a:pt x="3267" y="1242"/>
                </a:lnTo>
                <a:lnTo>
                  <a:pt x="3388" y="1324"/>
                </a:lnTo>
                <a:lnTo>
                  <a:pt x="3522" y="1406"/>
                </a:lnTo>
                <a:lnTo>
                  <a:pt x="3534" y="1419"/>
                </a:lnTo>
                <a:lnTo>
                  <a:pt x="3691" y="1488"/>
                </a:lnTo>
                <a:lnTo>
                  <a:pt x="3848" y="1556"/>
                </a:lnTo>
                <a:lnTo>
                  <a:pt x="4030" y="1610"/>
                </a:lnTo>
                <a:lnTo>
                  <a:pt x="4211" y="1665"/>
                </a:lnTo>
                <a:lnTo>
                  <a:pt x="4369" y="1706"/>
                </a:lnTo>
                <a:lnTo>
                  <a:pt x="4502" y="1747"/>
                </a:lnTo>
                <a:lnTo>
                  <a:pt x="4635" y="1788"/>
                </a:lnTo>
                <a:lnTo>
                  <a:pt x="4744" y="1829"/>
                </a:lnTo>
                <a:lnTo>
                  <a:pt x="4780" y="1842"/>
                </a:lnTo>
                <a:lnTo>
                  <a:pt x="4804" y="1856"/>
                </a:lnTo>
                <a:lnTo>
                  <a:pt x="4828" y="1802"/>
                </a:lnTo>
                <a:lnTo>
                  <a:pt x="4792" y="1788"/>
                </a:lnTo>
                <a:lnTo>
                  <a:pt x="4756" y="1774"/>
                </a:lnTo>
                <a:lnTo>
                  <a:pt x="4647" y="1733"/>
                </a:lnTo>
                <a:lnTo>
                  <a:pt x="4514" y="1692"/>
                </a:lnTo>
                <a:lnTo>
                  <a:pt x="4381" y="1651"/>
                </a:lnTo>
                <a:lnTo>
                  <a:pt x="4223" y="1610"/>
                </a:lnTo>
                <a:lnTo>
                  <a:pt x="4042" y="1556"/>
                </a:lnTo>
                <a:lnTo>
                  <a:pt x="3860" y="1501"/>
                </a:lnTo>
                <a:lnTo>
                  <a:pt x="3703" y="1433"/>
                </a:lnTo>
                <a:lnTo>
                  <a:pt x="3546" y="1365"/>
                </a:lnTo>
                <a:lnTo>
                  <a:pt x="3546" y="1392"/>
                </a:lnTo>
                <a:lnTo>
                  <a:pt x="3558" y="1365"/>
                </a:lnTo>
                <a:lnTo>
                  <a:pt x="3425" y="1283"/>
                </a:lnTo>
                <a:lnTo>
                  <a:pt x="3304" y="1201"/>
                </a:lnTo>
                <a:lnTo>
                  <a:pt x="3183" y="1133"/>
                </a:lnTo>
                <a:lnTo>
                  <a:pt x="3098" y="1064"/>
                </a:lnTo>
                <a:lnTo>
                  <a:pt x="3038" y="1010"/>
                </a:lnTo>
                <a:lnTo>
                  <a:pt x="2965" y="942"/>
                </a:lnTo>
                <a:lnTo>
                  <a:pt x="2880" y="887"/>
                </a:lnTo>
                <a:lnTo>
                  <a:pt x="2723" y="750"/>
                </a:lnTo>
                <a:lnTo>
                  <a:pt x="2626" y="696"/>
                </a:lnTo>
                <a:lnTo>
                  <a:pt x="2614" y="696"/>
                </a:lnTo>
                <a:lnTo>
                  <a:pt x="2517" y="641"/>
                </a:lnTo>
                <a:lnTo>
                  <a:pt x="2396" y="600"/>
                </a:lnTo>
                <a:lnTo>
                  <a:pt x="2263" y="573"/>
                </a:lnTo>
                <a:lnTo>
                  <a:pt x="2118" y="546"/>
                </a:lnTo>
                <a:lnTo>
                  <a:pt x="1924" y="518"/>
                </a:lnTo>
                <a:lnTo>
                  <a:pt x="1827" y="505"/>
                </a:lnTo>
                <a:lnTo>
                  <a:pt x="1706" y="505"/>
                </a:lnTo>
                <a:lnTo>
                  <a:pt x="1694" y="505"/>
                </a:lnTo>
                <a:lnTo>
                  <a:pt x="1428" y="518"/>
                </a:lnTo>
                <a:lnTo>
                  <a:pt x="1162" y="518"/>
                </a:lnTo>
                <a:lnTo>
                  <a:pt x="1041" y="518"/>
                </a:lnTo>
                <a:lnTo>
                  <a:pt x="1053" y="546"/>
                </a:lnTo>
                <a:lnTo>
                  <a:pt x="1053" y="518"/>
                </a:lnTo>
                <a:lnTo>
                  <a:pt x="944" y="518"/>
                </a:lnTo>
                <a:lnTo>
                  <a:pt x="775" y="505"/>
                </a:lnTo>
                <a:lnTo>
                  <a:pt x="642" y="491"/>
                </a:lnTo>
                <a:lnTo>
                  <a:pt x="533" y="477"/>
                </a:lnTo>
                <a:lnTo>
                  <a:pt x="521" y="505"/>
                </a:lnTo>
                <a:lnTo>
                  <a:pt x="545" y="477"/>
                </a:lnTo>
                <a:lnTo>
                  <a:pt x="424" y="423"/>
                </a:lnTo>
                <a:lnTo>
                  <a:pt x="327" y="355"/>
                </a:lnTo>
                <a:lnTo>
                  <a:pt x="218" y="245"/>
                </a:lnTo>
                <a:lnTo>
                  <a:pt x="121" y="123"/>
                </a:lnTo>
                <a:lnTo>
                  <a:pt x="37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509920" y="1165320"/>
            <a:ext cx="1249200" cy="1753920"/>
          </a:xfrm>
          <a:custGeom>
            <a:avLst/>
            <a:gdLst/>
            <a:ahLst/>
            <a:rect l="l" t="t" r="r" b="b"/>
            <a:pathLst>
              <a:path w="787" h="1105">
                <a:moveTo>
                  <a:pt x="12" y="0"/>
                </a:moveTo>
                <a:lnTo>
                  <a:pt x="0" y="27"/>
                </a:lnTo>
                <a:lnTo>
                  <a:pt x="133" y="191"/>
                </a:lnTo>
                <a:lnTo>
                  <a:pt x="279" y="327"/>
                </a:lnTo>
                <a:lnTo>
                  <a:pt x="351" y="382"/>
                </a:lnTo>
                <a:lnTo>
                  <a:pt x="424" y="436"/>
                </a:lnTo>
                <a:lnTo>
                  <a:pt x="496" y="477"/>
                </a:lnTo>
                <a:lnTo>
                  <a:pt x="569" y="532"/>
                </a:lnTo>
                <a:lnTo>
                  <a:pt x="593" y="600"/>
                </a:lnTo>
                <a:lnTo>
                  <a:pt x="605" y="587"/>
                </a:lnTo>
                <a:lnTo>
                  <a:pt x="593" y="587"/>
                </a:lnTo>
                <a:lnTo>
                  <a:pt x="617" y="655"/>
                </a:lnTo>
                <a:lnTo>
                  <a:pt x="630" y="709"/>
                </a:lnTo>
                <a:lnTo>
                  <a:pt x="666" y="791"/>
                </a:lnTo>
                <a:lnTo>
                  <a:pt x="666" y="778"/>
                </a:lnTo>
                <a:lnTo>
                  <a:pt x="654" y="791"/>
                </a:lnTo>
                <a:lnTo>
                  <a:pt x="690" y="901"/>
                </a:lnTo>
                <a:lnTo>
                  <a:pt x="714" y="969"/>
                </a:lnTo>
                <a:lnTo>
                  <a:pt x="726" y="1023"/>
                </a:lnTo>
                <a:lnTo>
                  <a:pt x="738" y="1023"/>
                </a:lnTo>
                <a:lnTo>
                  <a:pt x="738" y="1051"/>
                </a:lnTo>
                <a:lnTo>
                  <a:pt x="751" y="1064"/>
                </a:lnTo>
                <a:lnTo>
                  <a:pt x="751" y="1078"/>
                </a:lnTo>
                <a:lnTo>
                  <a:pt x="775" y="1105"/>
                </a:lnTo>
                <a:lnTo>
                  <a:pt x="787" y="1078"/>
                </a:lnTo>
                <a:lnTo>
                  <a:pt x="763" y="1051"/>
                </a:lnTo>
                <a:lnTo>
                  <a:pt x="763" y="1064"/>
                </a:lnTo>
                <a:lnTo>
                  <a:pt x="775" y="1064"/>
                </a:lnTo>
                <a:lnTo>
                  <a:pt x="763" y="1051"/>
                </a:lnTo>
                <a:lnTo>
                  <a:pt x="751" y="1010"/>
                </a:lnTo>
                <a:lnTo>
                  <a:pt x="738" y="1010"/>
                </a:lnTo>
                <a:lnTo>
                  <a:pt x="751" y="1010"/>
                </a:lnTo>
                <a:lnTo>
                  <a:pt x="738" y="969"/>
                </a:lnTo>
                <a:lnTo>
                  <a:pt x="714" y="901"/>
                </a:lnTo>
                <a:lnTo>
                  <a:pt x="678" y="778"/>
                </a:lnTo>
                <a:lnTo>
                  <a:pt x="678" y="778"/>
                </a:lnTo>
                <a:lnTo>
                  <a:pt x="654" y="709"/>
                </a:lnTo>
                <a:lnTo>
                  <a:pt x="642" y="655"/>
                </a:lnTo>
                <a:lnTo>
                  <a:pt x="617" y="587"/>
                </a:lnTo>
                <a:lnTo>
                  <a:pt x="605" y="573"/>
                </a:lnTo>
                <a:lnTo>
                  <a:pt x="581" y="505"/>
                </a:lnTo>
                <a:lnTo>
                  <a:pt x="509" y="450"/>
                </a:lnTo>
                <a:lnTo>
                  <a:pt x="436" y="409"/>
                </a:lnTo>
                <a:lnTo>
                  <a:pt x="363" y="355"/>
                </a:lnTo>
                <a:lnTo>
                  <a:pt x="291" y="300"/>
                </a:lnTo>
                <a:lnTo>
                  <a:pt x="146" y="163"/>
                </a:lnTo>
                <a:lnTo>
                  <a:pt x="12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121520" y="3591000"/>
            <a:ext cx="979560" cy="2189160"/>
          </a:xfrm>
          <a:custGeom>
            <a:avLst/>
            <a:gdLst/>
            <a:ahLst/>
            <a:rect l="l" t="t" r="r" b="b"/>
            <a:pathLst>
              <a:path w="617" h="1379">
                <a:moveTo>
                  <a:pt x="24" y="1379"/>
                </a:moveTo>
                <a:lnTo>
                  <a:pt x="12" y="1365"/>
                </a:lnTo>
                <a:lnTo>
                  <a:pt x="0" y="1338"/>
                </a:lnTo>
                <a:lnTo>
                  <a:pt x="12" y="1311"/>
                </a:lnTo>
                <a:lnTo>
                  <a:pt x="36" y="1256"/>
                </a:lnTo>
                <a:lnTo>
                  <a:pt x="60" y="1215"/>
                </a:lnTo>
                <a:lnTo>
                  <a:pt x="84" y="1174"/>
                </a:lnTo>
                <a:lnTo>
                  <a:pt x="169" y="1051"/>
                </a:lnTo>
                <a:lnTo>
                  <a:pt x="242" y="942"/>
                </a:lnTo>
                <a:lnTo>
                  <a:pt x="314" y="847"/>
                </a:lnTo>
                <a:lnTo>
                  <a:pt x="350" y="792"/>
                </a:lnTo>
                <a:lnTo>
                  <a:pt x="363" y="765"/>
                </a:lnTo>
                <a:lnTo>
                  <a:pt x="375" y="738"/>
                </a:lnTo>
                <a:lnTo>
                  <a:pt x="387" y="710"/>
                </a:lnTo>
                <a:lnTo>
                  <a:pt x="411" y="669"/>
                </a:lnTo>
                <a:lnTo>
                  <a:pt x="447" y="601"/>
                </a:lnTo>
                <a:lnTo>
                  <a:pt x="508" y="478"/>
                </a:lnTo>
                <a:lnTo>
                  <a:pt x="544" y="342"/>
                </a:lnTo>
                <a:lnTo>
                  <a:pt x="568" y="205"/>
                </a:lnTo>
                <a:lnTo>
                  <a:pt x="592" y="82"/>
                </a:lnTo>
                <a:lnTo>
                  <a:pt x="617" y="28"/>
                </a:lnTo>
                <a:lnTo>
                  <a:pt x="617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7964280" y="4444920"/>
            <a:ext cx="793080" cy="1041840"/>
            <a:chOff x="7964280" y="4444920"/>
            <a:chExt cx="793080" cy="1041840"/>
          </a:xfrm>
        </p:grpSpPr>
        <p:sp>
          <p:nvSpPr>
            <p:cNvPr id="527" name=""/>
            <p:cNvSpPr/>
            <p:nvPr/>
          </p:nvSpPr>
          <p:spPr>
            <a:xfrm>
              <a:off x="7965720" y="444492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965000" y="518148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964280" y="4813200"/>
              <a:ext cx="793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 o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3913200" y="3873600"/>
            <a:ext cx="1363320" cy="823680"/>
            <a:chOff x="3913200" y="3873600"/>
            <a:chExt cx="1363320" cy="823680"/>
          </a:xfrm>
        </p:grpSpPr>
        <p:sp>
          <p:nvSpPr>
            <p:cNvPr id="531" name=""/>
            <p:cNvSpPr/>
            <p:nvPr/>
          </p:nvSpPr>
          <p:spPr>
            <a:xfrm>
              <a:off x="3913200" y="3873600"/>
              <a:ext cx="122868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46480" y="4502160"/>
              <a:ext cx="230040" cy="195120"/>
            </a:xfrm>
            <a:custGeom>
              <a:avLst/>
              <a:gdLst/>
              <a:ahLst/>
              <a:rect l="l" t="t" r="r" b="b"/>
              <a:pathLst>
                <a:path w="145" h="123">
                  <a:moveTo>
                    <a:pt x="0" y="123"/>
                  </a:moveTo>
                  <a:lnTo>
                    <a:pt x="145" y="123"/>
                  </a:lnTo>
                  <a:lnTo>
                    <a:pt x="72" y="0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3989160" y="4329000"/>
            <a:ext cx="68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ux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036880" y="171360"/>
            <a:ext cx="5654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ponibilidade hídrica na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200400" y="17874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529320" y="433692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929120" y="359244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85800" y="50292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016640" y="4983120"/>
            <a:ext cx="1995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ção d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14880" y="4572000"/>
            <a:ext cx="106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576360" y="1366920"/>
            <a:ext cx="7318800" cy="4516200"/>
            <a:chOff x="576360" y="1366920"/>
            <a:chExt cx="7318800" cy="4516200"/>
          </a:xfrm>
        </p:grpSpPr>
        <p:grpSp>
          <p:nvGrpSpPr>
            <p:cNvPr id="543" name=""/>
            <p:cNvGrpSpPr/>
            <p:nvPr/>
          </p:nvGrpSpPr>
          <p:grpSpPr>
            <a:xfrm>
              <a:off x="1366920" y="1366920"/>
              <a:ext cx="6528240" cy="2839680"/>
              <a:chOff x="1366920" y="1366920"/>
              <a:chExt cx="6528240" cy="2839680"/>
            </a:xfrm>
          </p:grpSpPr>
          <p:sp>
            <p:nvSpPr>
              <p:cNvPr id="544" name=""/>
              <p:cNvSpPr/>
              <p:nvPr/>
            </p:nvSpPr>
            <p:spPr>
              <a:xfrm>
                <a:off x="3214800" y="1366920"/>
                <a:ext cx="18921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disp = 3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875200" y="3809880"/>
                <a:ext cx="2019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disp = 13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732200" y="3124080"/>
                <a:ext cx="2019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disp = 10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66920" y="2971800"/>
                <a:ext cx="18921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disp = 6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576360" y="5486400"/>
              <a:ext cx="26892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Qdisp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: vazão disponív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-20520" y="907920"/>
            <a:ext cx="7745400" cy="4162680"/>
          </a:xfrm>
          <a:custGeom>
            <a:avLst/>
            <a:gdLst/>
            <a:ahLst/>
            <a:rect l="l" t="t" r="r" b="b"/>
            <a:pathLst>
              <a:path w="4879" h="2622">
                <a:moveTo>
                  <a:pt x="4879" y="2398"/>
                </a:moveTo>
                <a:cubicBezTo>
                  <a:pt x="4867" y="2365"/>
                  <a:pt x="4865" y="2327"/>
                  <a:pt x="4853" y="2295"/>
                </a:cubicBezTo>
                <a:cubicBezTo>
                  <a:pt x="4829" y="2233"/>
                  <a:pt x="4756" y="2205"/>
                  <a:pt x="4716" y="2157"/>
                </a:cubicBezTo>
                <a:cubicBezTo>
                  <a:pt x="4690" y="2126"/>
                  <a:pt x="4684" y="2090"/>
                  <a:pt x="4655" y="2063"/>
                </a:cubicBezTo>
                <a:cubicBezTo>
                  <a:pt x="4638" y="2007"/>
                  <a:pt x="4592" y="1958"/>
                  <a:pt x="4561" y="1908"/>
                </a:cubicBezTo>
                <a:cubicBezTo>
                  <a:pt x="4533" y="1863"/>
                  <a:pt x="4524" y="1813"/>
                  <a:pt x="4492" y="1771"/>
                </a:cubicBezTo>
                <a:cubicBezTo>
                  <a:pt x="4467" y="1737"/>
                  <a:pt x="4426" y="1722"/>
                  <a:pt x="4397" y="1693"/>
                </a:cubicBezTo>
                <a:cubicBezTo>
                  <a:pt x="4333" y="1629"/>
                  <a:pt x="4274" y="1564"/>
                  <a:pt x="4208" y="1504"/>
                </a:cubicBezTo>
                <a:cubicBezTo>
                  <a:pt x="4157" y="1458"/>
                  <a:pt x="4120" y="1404"/>
                  <a:pt x="4079" y="1349"/>
                </a:cubicBezTo>
                <a:cubicBezTo>
                  <a:pt x="4045" y="1303"/>
                  <a:pt x="3988" y="1281"/>
                  <a:pt x="3950" y="1238"/>
                </a:cubicBezTo>
                <a:cubicBezTo>
                  <a:pt x="3864" y="1140"/>
                  <a:pt x="3764" y="1068"/>
                  <a:pt x="3658" y="997"/>
                </a:cubicBezTo>
                <a:cubicBezTo>
                  <a:pt x="3643" y="987"/>
                  <a:pt x="3629" y="974"/>
                  <a:pt x="3615" y="962"/>
                </a:cubicBezTo>
                <a:cubicBezTo>
                  <a:pt x="3603" y="951"/>
                  <a:pt x="3594" y="937"/>
                  <a:pt x="3581" y="928"/>
                </a:cubicBezTo>
                <a:cubicBezTo>
                  <a:pt x="3515" y="882"/>
                  <a:pt x="3368" y="865"/>
                  <a:pt x="3288" y="842"/>
                </a:cubicBezTo>
                <a:cubicBezTo>
                  <a:pt x="3211" y="791"/>
                  <a:pt x="3140" y="701"/>
                  <a:pt x="3048" y="679"/>
                </a:cubicBezTo>
                <a:cubicBezTo>
                  <a:pt x="2985" y="638"/>
                  <a:pt x="2967" y="570"/>
                  <a:pt x="2919" y="515"/>
                </a:cubicBezTo>
                <a:cubicBezTo>
                  <a:pt x="2882" y="473"/>
                  <a:pt x="2849" y="469"/>
                  <a:pt x="2807" y="438"/>
                </a:cubicBezTo>
                <a:cubicBezTo>
                  <a:pt x="2752" y="397"/>
                  <a:pt x="2770" y="413"/>
                  <a:pt x="2730" y="352"/>
                </a:cubicBezTo>
                <a:cubicBezTo>
                  <a:pt x="2717" y="332"/>
                  <a:pt x="2684" y="342"/>
                  <a:pt x="2661" y="335"/>
                </a:cubicBezTo>
                <a:cubicBezTo>
                  <a:pt x="2645" y="324"/>
                  <a:pt x="2625" y="320"/>
                  <a:pt x="2609" y="309"/>
                </a:cubicBezTo>
                <a:cubicBezTo>
                  <a:pt x="2599" y="302"/>
                  <a:pt x="2594" y="289"/>
                  <a:pt x="2584" y="283"/>
                </a:cubicBezTo>
                <a:cubicBezTo>
                  <a:pt x="2553" y="264"/>
                  <a:pt x="2507" y="249"/>
                  <a:pt x="2472" y="240"/>
                </a:cubicBezTo>
                <a:cubicBezTo>
                  <a:pt x="2386" y="184"/>
                  <a:pt x="2290" y="157"/>
                  <a:pt x="2188" y="146"/>
                </a:cubicBezTo>
                <a:cubicBezTo>
                  <a:pt x="2154" y="137"/>
                  <a:pt x="2119" y="130"/>
                  <a:pt x="2085" y="120"/>
                </a:cubicBezTo>
                <a:cubicBezTo>
                  <a:pt x="2055" y="111"/>
                  <a:pt x="2029" y="95"/>
                  <a:pt x="1999" y="86"/>
                </a:cubicBezTo>
                <a:cubicBezTo>
                  <a:pt x="1946" y="30"/>
                  <a:pt x="1871" y="22"/>
                  <a:pt x="1801" y="0"/>
                </a:cubicBezTo>
                <a:cubicBezTo>
                  <a:pt x="1788" y="1"/>
                  <a:pt x="1684" y="11"/>
                  <a:pt x="1664" y="17"/>
                </a:cubicBezTo>
                <a:cubicBezTo>
                  <a:pt x="1654" y="20"/>
                  <a:pt x="1648" y="33"/>
                  <a:pt x="1638" y="34"/>
                </a:cubicBezTo>
                <a:cubicBezTo>
                  <a:pt x="1570" y="42"/>
                  <a:pt x="1501" y="40"/>
                  <a:pt x="1432" y="43"/>
                </a:cubicBezTo>
                <a:cubicBezTo>
                  <a:pt x="1339" y="55"/>
                  <a:pt x="1252" y="87"/>
                  <a:pt x="1165" y="120"/>
                </a:cubicBezTo>
                <a:cubicBezTo>
                  <a:pt x="1107" y="142"/>
                  <a:pt x="1044" y="143"/>
                  <a:pt x="984" y="154"/>
                </a:cubicBezTo>
                <a:cubicBezTo>
                  <a:pt x="802" y="148"/>
                  <a:pt x="739" y="149"/>
                  <a:pt x="589" y="103"/>
                </a:cubicBezTo>
                <a:cubicBezTo>
                  <a:pt x="563" y="106"/>
                  <a:pt x="537" y="106"/>
                  <a:pt x="512" y="111"/>
                </a:cubicBezTo>
                <a:cubicBezTo>
                  <a:pt x="494" y="115"/>
                  <a:pt x="475" y="119"/>
                  <a:pt x="460" y="129"/>
                </a:cubicBezTo>
                <a:cubicBezTo>
                  <a:pt x="443" y="140"/>
                  <a:pt x="428" y="158"/>
                  <a:pt x="408" y="163"/>
                </a:cubicBezTo>
                <a:cubicBezTo>
                  <a:pt x="341" y="181"/>
                  <a:pt x="285" y="220"/>
                  <a:pt x="219" y="240"/>
                </a:cubicBezTo>
                <a:cubicBezTo>
                  <a:pt x="193" y="267"/>
                  <a:pt x="160" y="283"/>
                  <a:pt x="133" y="309"/>
                </a:cubicBezTo>
                <a:cubicBezTo>
                  <a:pt x="116" y="364"/>
                  <a:pt x="67" y="477"/>
                  <a:pt x="22" y="507"/>
                </a:cubicBezTo>
                <a:cubicBezTo>
                  <a:pt x="0" y="571"/>
                  <a:pt x="0" y="556"/>
                  <a:pt x="22" y="619"/>
                </a:cubicBezTo>
                <a:cubicBezTo>
                  <a:pt x="16" y="686"/>
                  <a:pt x="1" y="741"/>
                  <a:pt x="39" y="799"/>
                </a:cubicBezTo>
                <a:cubicBezTo>
                  <a:pt x="46" y="855"/>
                  <a:pt x="51" y="907"/>
                  <a:pt x="82" y="954"/>
                </a:cubicBezTo>
                <a:cubicBezTo>
                  <a:pt x="96" y="1010"/>
                  <a:pt x="100" y="1050"/>
                  <a:pt x="142" y="1091"/>
                </a:cubicBezTo>
                <a:cubicBezTo>
                  <a:pt x="159" y="1125"/>
                  <a:pt x="182" y="1145"/>
                  <a:pt x="202" y="1177"/>
                </a:cubicBezTo>
                <a:cubicBezTo>
                  <a:pt x="226" y="1215"/>
                  <a:pt x="257" y="1250"/>
                  <a:pt x="280" y="1289"/>
                </a:cubicBezTo>
                <a:cubicBezTo>
                  <a:pt x="288" y="1303"/>
                  <a:pt x="293" y="1320"/>
                  <a:pt x="305" y="1332"/>
                </a:cubicBezTo>
                <a:cubicBezTo>
                  <a:pt x="346" y="1373"/>
                  <a:pt x="405" y="1407"/>
                  <a:pt x="451" y="1444"/>
                </a:cubicBezTo>
                <a:cubicBezTo>
                  <a:pt x="501" y="1484"/>
                  <a:pt x="526" y="1519"/>
                  <a:pt x="589" y="1538"/>
                </a:cubicBezTo>
                <a:cubicBezTo>
                  <a:pt x="667" y="1592"/>
                  <a:pt x="767" y="1611"/>
                  <a:pt x="856" y="1642"/>
                </a:cubicBezTo>
                <a:cubicBezTo>
                  <a:pt x="885" y="1652"/>
                  <a:pt x="915" y="1659"/>
                  <a:pt x="941" y="1676"/>
                </a:cubicBezTo>
                <a:cubicBezTo>
                  <a:pt x="950" y="1682"/>
                  <a:pt x="958" y="1688"/>
                  <a:pt x="967" y="1693"/>
                </a:cubicBezTo>
                <a:cubicBezTo>
                  <a:pt x="1016" y="1718"/>
                  <a:pt x="1071" y="1728"/>
                  <a:pt x="1122" y="1745"/>
                </a:cubicBezTo>
                <a:cubicBezTo>
                  <a:pt x="1306" y="1806"/>
                  <a:pt x="1145" y="1762"/>
                  <a:pt x="1242" y="1788"/>
                </a:cubicBezTo>
                <a:cubicBezTo>
                  <a:pt x="1313" y="1840"/>
                  <a:pt x="1372" y="1894"/>
                  <a:pt x="1457" y="1917"/>
                </a:cubicBezTo>
                <a:cubicBezTo>
                  <a:pt x="1539" y="1968"/>
                  <a:pt x="1620" y="1991"/>
                  <a:pt x="1715" y="2011"/>
                </a:cubicBezTo>
                <a:cubicBezTo>
                  <a:pt x="1741" y="2016"/>
                  <a:pt x="1767" y="2022"/>
                  <a:pt x="1793" y="2028"/>
                </a:cubicBezTo>
                <a:cubicBezTo>
                  <a:pt x="1807" y="2031"/>
                  <a:pt x="1836" y="2037"/>
                  <a:pt x="1836" y="2037"/>
                </a:cubicBezTo>
                <a:cubicBezTo>
                  <a:pt x="1926" y="2082"/>
                  <a:pt x="1968" y="2149"/>
                  <a:pt x="2068" y="2175"/>
                </a:cubicBezTo>
                <a:cubicBezTo>
                  <a:pt x="2112" y="2219"/>
                  <a:pt x="2197" y="2294"/>
                  <a:pt x="2257" y="2312"/>
                </a:cubicBezTo>
                <a:cubicBezTo>
                  <a:pt x="2273" y="2364"/>
                  <a:pt x="2310" y="2371"/>
                  <a:pt x="2351" y="2398"/>
                </a:cubicBezTo>
                <a:cubicBezTo>
                  <a:pt x="2514" y="2505"/>
                  <a:pt x="2665" y="2528"/>
                  <a:pt x="2859" y="2544"/>
                </a:cubicBezTo>
                <a:cubicBezTo>
                  <a:pt x="2888" y="2549"/>
                  <a:pt x="2915" y="2565"/>
                  <a:pt x="2945" y="2570"/>
                </a:cubicBezTo>
                <a:cubicBezTo>
                  <a:pt x="2985" y="2577"/>
                  <a:pt x="3025" y="2576"/>
                  <a:pt x="3065" y="2579"/>
                </a:cubicBezTo>
                <a:cubicBezTo>
                  <a:pt x="3223" y="2572"/>
                  <a:pt x="3353" y="2558"/>
                  <a:pt x="3503" y="2527"/>
                </a:cubicBezTo>
                <a:cubicBezTo>
                  <a:pt x="3593" y="2533"/>
                  <a:pt x="3639" y="2537"/>
                  <a:pt x="3718" y="2553"/>
                </a:cubicBezTo>
                <a:cubicBezTo>
                  <a:pt x="3768" y="2563"/>
                  <a:pt x="3813" y="2587"/>
                  <a:pt x="3864" y="2596"/>
                </a:cubicBezTo>
                <a:cubicBezTo>
                  <a:pt x="3974" y="2616"/>
                  <a:pt x="4089" y="2616"/>
                  <a:pt x="4200" y="2622"/>
                </a:cubicBezTo>
                <a:cubicBezTo>
                  <a:pt x="4266" y="2619"/>
                  <a:pt x="4332" y="2619"/>
                  <a:pt x="4397" y="2613"/>
                </a:cubicBezTo>
                <a:cubicBezTo>
                  <a:pt x="4457" y="2607"/>
                  <a:pt x="4490" y="2577"/>
                  <a:pt x="4544" y="2562"/>
                </a:cubicBezTo>
                <a:cubicBezTo>
                  <a:pt x="4619" y="2541"/>
                  <a:pt x="4688" y="2541"/>
                  <a:pt x="4767" y="2536"/>
                </a:cubicBezTo>
                <a:cubicBezTo>
                  <a:pt x="4791" y="2528"/>
                  <a:pt x="4814" y="2522"/>
                  <a:pt x="4836" y="251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12600" y="1901880"/>
            <a:ext cx="7664400" cy="2946240"/>
          </a:xfrm>
          <a:custGeom>
            <a:avLst/>
            <a:gdLst/>
            <a:ahLst/>
            <a:rect l="l" t="t" r="r" b="b"/>
            <a:pathLst>
              <a:path w="4828" h="1856">
                <a:moveTo>
                  <a:pt x="37" y="0"/>
                </a:moveTo>
                <a:lnTo>
                  <a:pt x="0" y="41"/>
                </a:lnTo>
                <a:lnTo>
                  <a:pt x="85" y="164"/>
                </a:lnTo>
                <a:lnTo>
                  <a:pt x="182" y="286"/>
                </a:lnTo>
                <a:lnTo>
                  <a:pt x="291" y="396"/>
                </a:lnTo>
                <a:lnTo>
                  <a:pt x="400" y="477"/>
                </a:lnTo>
                <a:lnTo>
                  <a:pt x="508" y="518"/>
                </a:lnTo>
                <a:lnTo>
                  <a:pt x="521" y="532"/>
                </a:lnTo>
                <a:lnTo>
                  <a:pt x="629" y="546"/>
                </a:lnTo>
                <a:lnTo>
                  <a:pt x="763" y="559"/>
                </a:lnTo>
                <a:lnTo>
                  <a:pt x="944" y="573"/>
                </a:lnTo>
                <a:lnTo>
                  <a:pt x="1041" y="573"/>
                </a:lnTo>
                <a:lnTo>
                  <a:pt x="1053" y="573"/>
                </a:lnTo>
                <a:lnTo>
                  <a:pt x="1174" y="573"/>
                </a:lnTo>
                <a:lnTo>
                  <a:pt x="1440" y="573"/>
                </a:lnTo>
                <a:lnTo>
                  <a:pt x="1706" y="559"/>
                </a:lnTo>
                <a:lnTo>
                  <a:pt x="1694" y="532"/>
                </a:lnTo>
                <a:lnTo>
                  <a:pt x="1694" y="559"/>
                </a:lnTo>
                <a:lnTo>
                  <a:pt x="1815" y="559"/>
                </a:lnTo>
                <a:lnTo>
                  <a:pt x="1924" y="573"/>
                </a:lnTo>
                <a:lnTo>
                  <a:pt x="2106" y="600"/>
                </a:lnTo>
                <a:lnTo>
                  <a:pt x="2251" y="628"/>
                </a:lnTo>
                <a:lnTo>
                  <a:pt x="2384" y="655"/>
                </a:lnTo>
                <a:lnTo>
                  <a:pt x="2505" y="696"/>
                </a:lnTo>
                <a:lnTo>
                  <a:pt x="2602" y="750"/>
                </a:lnTo>
                <a:lnTo>
                  <a:pt x="2614" y="723"/>
                </a:lnTo>
                <a:lnTo>
                  <a:pt x="2590" y="737"/>
                </a:lnTo>
                <a:lnTo>
                  <a:pt x="2687" y="791"/>
                </a:lnTo>
                <a:lnTo>
                  <a:pt x="2856" y="928"/>
                </a:lnTo>
                <a:lnTo>
                  <a:pt x="2929" y="983"/>
                </a:lnTo>
                <a:lnTo>
                  <a:pt x="3001" y="1051"/>
                </a:lnTo>
                <a:lnTo>
                  <a:pt x="3062" y="1105"/>
                </a:lnTo>
                <a:lnTo>
                  <a:pt x="3159" y="1174"/>
                </a:lnTo>
                <a:lnTo>
                  <a:pt x="3267" y="1242"/>
                </a:lnTo>
                <a:lnTo>
                  <a:pt x="3388" y="1324"/>
                </a:lnTo>
                <a:lnTo>
                  <a:pt x="3522" y="1406"/>
                </a:lnTo>
                <a:lnTo>
                  <a:pt x="3534" y="1419"/>
                </a:lnTo>
                <a:lnTo>
                  <a:pt x="3691" y="1488"/>
                </a:lnTo>
                <a:lnTo>
                  <a:pt x="3848" y="1556"/>
                </a:lnTo>
                <a:lnTo>
                  <a:pt x="4030" y="1610"/>
                </a:lnTo>
                <a:lnTo>
                  <a:pt x="4211" y="1665"/>
                </a:lnTo>
                <a:lnTo>
                  <a:pt x="4369" y="1706"/>
                </a:lnTo>
                <a:lnTo>
                  <a:pt x="4502" y="1747"/>
                </a:lnTo>
                <a:lnTo>
                  <a:pt x="4635" y="1788"/>
                </a:lnTo>
                <a:lnTo>
                  <a:pt x="4744" y="1829"/>
                </a:lnTo>
                <a:lnTo>
                  <a:pt x="4780" y="1842"/>
                </a:lnTo>
                <a:lnTo>
                  <a:pt x="4804" y="1856"/>
                </a:lnTo>
                <a:lnTo>
                  <a:pt x="4828" y="1802"/>
                </a:lnTo>
                <a:lnTo>
                  <a:pt x="4792" y="1788"/>
                </a:lnTo>
                <a:lnTo>
                  <a:pt x="4756" y="1774"/>
                </a:lnTo>
                <a:lnTo>
                  <a:pt x="4647" y="1733"/>
                </a:lnTo>
                <a:lnTo>
                  <a:pt x="4514" y="1692"/>
                </a:lnTo>
                <a:lnTo>
                  <a:pt x="4381" y="1651"/>
                </a:lnTo>
                <a:lnTo>
                  <a:pt x="4223" y="1610"/>
                </a:lnTo>
                <a:lnTo>
                  <a:pt x="4042" y="1556"/>
                </a:lnTo>
                <a:lnTo>
                  <a:pt x="3860" y="1501"/>
                </a:lnTo>
                <a:lnTo>
                  <a:pt x="3703" y="1433"/>
                </a:lnTo>
                <a:lnTo>
                  <a:pt x="3546" y="1365"/>
                </a:lnTo>
                <a:lnTo>
                  <a:pt x="3546" y="1392"/>
                </a:lnTo>
                <a:lnTo>
                  <a:pt x="3558" y="1365"/>
                </a:lnTo>
                <a:lnTo>
                  <a:pt x="3425" y="1283"/>
                </a:lnTo>
                <a:lnTo>
                  <a:pt x="3304" y="1201"/>
                </a:lnTo>
                <a:lnTo>
                  <a:pt x="3183" y="1133"/>
                </a:lnTo>
                <a:lnTo>
                  <a:pt x="3098" y="1064"/>
                </a:lnTo>
                <a:lnTo>
                  <a:pt x="3038" y="1010"/>
                </a:lnTo>
                <a:lnTo>
                  <a:pt x="2965" y="942"/>
                </a:lnTo>
                <a:lnTo>
                  <a:pt x="2880" y="887"/>
                </a:lnTo>
                <a:lnTo>
                  <a:pt x="2723" y="750"/>
                </a:lnTo>
                <a:lnTo>
                  <a:pt x="2626" y="696"/>
                </a:lnTo>
                <a:lnTo>
                  <a:pt x="2614" y="696"/>
                </a:lnTo>
                <a:lnTo>
                  <a:pt x="2517" y="641"/>
                </a:lnTo>
                <a:lnTo>
                  <a:pt x="2396" y="600"/>
                </a:lnTo>
                <a:lnTo>
                  <a:pt x="2263" y="573"/>
                </a:lnTo>
                <a:lnTo>
                  <a:pt x="2118" y="546"/>
                </a:lnTo>
                <a:lnTo>
                  <a:pt x="1924" y="518"/>
                </a:lnTo>
                <a:lnTo>
                  <a:pt x="1827" y="505"/>
                </a:lnTo>
                <a:lnTo>
                  <a:pt x="1706" y="505"/>
                </a:lnTo>
                <a:lnTo>
                  <a:pt x="1694" y="505"/>
                </a:lnTo>
                <a:lnTo>
                  <a:pt x="1428" y="518"/>
                </a:lnTo>
                <a:lnTo>
                  <a:pt x="1162" y="518"/>
                </a:lnTo>
                <a:lnTo>
                  <a:pt x="1041" y="518"/>
                </a:lnTo>
                <a:lnTo>
                  <a:pt x="1053" y="546"/>
                </a:lnTo>
                <a:lnTo>
                  <a:pt x="1053" y="518"/>
                </a:lnTo>
                <a:lnTo>
                  <a:pt x="944" y="518"/>
                </a:lnTo>
                <a:lnTo>
                  <a:pt x="775" y="505"/>
                </a:lnTo>
                <a:lnTo>
                  <a:pt x="642" y="491"/>
                </a:lnTo>
                <a:lnTo>
                  <a:pt x="533" y="477"/>
                </a:lnTo>
                <a:lnTo>
                  <a:pt x="521" y="505"/>
                </a:lnTo>
                <a:lnTo>
                  <a:pt x="545" y="477"/>
                </a:lnTo>
                <a:lnTo>
                  <a:pt x="424" y="423"/>
                </a:lnTo>
                <a:lnTo>
                  <a:pt x="327" y="355"/>
                </a:lnTo>
                <a:lnTo>
                  <a:pt x="218" y="245"/>
                </a:lnTo>
                <a:lnTo>
                  <a:pt x="121" y="123"/>
                </a:lnTo>
                <a:lnTo>
                  <a:pt x="37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509920" y="1165320"/>
            <a:ext cx="1249200" cy="1753920"/>
          </a:xfrm>
          <a:custGeom>
            <a:avLst/>
            <a:gdLst/>
            <a:ahLst/>
            <a:rect l="l" t="t" r="r" b="b"/>
            <a:pathLst>
              <a:path w="787" h="1105">
                <a:moveTo>
                  <a:pt x="12" y="0"/>
                </a:moveTo>
                <a:lnTo>
                  <a:pt x="0" y="27"/>
                </a:lnTo>
                <a:lnTo>
                  <a:pt x="133" y="191"/>
                </a:lnTo>
                <a:lnTo>
                  <a:pt x="279" y="327"/>
                </a:lnTo>
                <a:lnTo>
                  <a:pt x="351" y="382"/>
                </a:lnTo>
                <a:lnTo>
                  <a:pt x="424" y="436"/>
                </a:lnTo>
                <a:lnTo>
                  <a:pt x="496" y="477"/>
                </a:lnTo>
                <a:lnTo>
                  <a:pt x="569" y="532"/>
                </a:lnTo>
                <a:lnTo>
                  <a:pt x="593" y="600"/>
                </a:lnTo>
                <a:lnTo>
                  <a:pt x="605" y="587"/>
                </a:lnTo>
                <a:lnTo>
                  <a:pt x="593" y="587"/>
                </a:lnTo>
                <a:lnTo>
                  <a:pt x="617" y="655"/>
                </a:lnTo>
                <a:lnTo>
                  <a:pt x="630" y="709"/>
                </a:lnTo>
                <a:lnTo>
                  <a:pt x="666" y="791"/>
                </a:lnTo>
                <a:lnTo>
                  <a:pt x="666" y="778"/>
                </a:lnTo>
                <a:lnTo>
                  <a:pt x="654" y="791"/>
                </a:lnTo>
                <a:lnTo>
                  <a:pt x="690" y="901"/>
                </a:lnTo>
                <a:lnTo>
                  <a:pt x="714" y="969"/>
                </a:lnTo>
                <a:lnTo>
                  <a:pt x="726" y="1023"/>
                </a:lnTo>
                <a:lnTo>
                  <a:pt x="738" y="1023"/>
                </a:lnTo>
                <a:lnTo>
                  <a:pt x="738" y="1051"/>
                </a:lnTo>
                <a:lnTo>
                  <a:pt x="751" y="1064"/>
                </a:lnTo>
                <a:lnTo>
                  <a:pt x="751" y="1078"/>
                </a:lnTo>
                <a:lnTo>
                  <a:pt x="775" y="1105"/>
                </a:lnTo>
                <a:lnTo>
                  <a:pt x="787" y="1078"/>
                </a:lnTo>
                <a:lnTo>
                  <a:pt x="763" y="1051"/>
                </a:lnTo>
                <a:lnTo>
                  <a:pt x="763" y="1064"/>
                </a:lnTo>
                <a:lnTo>
                  <a:pt x="775" y="1064"/>
                </a:lnTo>
                <a:lnTo>
                  <a:pt x="763" y="1051"/>
                </a:lnTo>
                <a:lnTo>
                  <a:pt x="751" y="1010"/>
                </a:lnTo>
                <a:lnTo>
                  <a:pt x="738" y="1010"/>
                </a:lnTo>
                <a:lnTo>
                  <a:pt x="751" y="1010"/>
                </a:lnTo>
                <a:lnTo>
                  <a:pt x="738" y="969"/>
                </a:lnTo>
                <a:lnTo>
                  <a:pt x="714" y="901"/>
                </a:lnTo>
                <a:lnTo>
                  <a:pt x="678" y="778"/>
                </a:lnTo>
                <a:lnTo>
                  <a:pt x="678" y="778"/>
                </a:lnTo>
                <a:lnTo>
                  <a:pt x="654" y="709"/>
                </a:lnTo>
                <a:lnTo>
                  <a:pt x="642" y="655"/>
                </a:lnTo>
                <a:lnTo>
                  <a:pt x="617" y="587"/>
                </a:lnTo>
                <a:lnTo>
                  <a:pt x="605" y="573"/>
                </a:lnTo>
                <a:lnTo>
                  <a:pt x="581" y="505"/>
                </a:lnTo>
                <a:lnTo>
                  <a:pt x="509" y="450"/>
                </a:lnTo>
                <a:lnTo>
                  <a:pt x="436" y="409"/>
                </a:lnTo>
                <a:lnTo>
                  <a:pt x="363" y="355"/>
                </a:lnTo>
                <a:lnTo>
                  <a:pt x="291" y="300"/>
                </a:lnTo>
                <a:lnTo>
                  <a:pt x="146" y="163"/>
                </a:lnTo>
                <a:lnTo>
                  <a:pt x="12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121520" y="3591000"/>
            <a:ext cx="979560" cy="2189160"/>
          </a:xfrm>
          <a:custGeom>
            <a:avLst/>
            <a:gdLst/>
            <a:ahLst/>
            <a:rect l="l" t="t" r="r" b="b"/>
            <a:pathLst>
              <a:path w="617" h="1379">
                <a:moveTo>
                  <a:pt x="24" y="1379"/>
                </a:moveTo>
                <a:lnTo>
                  <a:pt x="12" y="1365"/>
                </a:lnTo>
                <a:lnTo>
                  <a:pt x="0" y="1338"/>
                </a:lnTo>
                <a:lnTo>
                  <a:pt x="12" y="1311"/>
                </a:lnTo>
                <a:lnTo>
                  <a:pt x="36" y="1256"/>
                </a:lnTo>
                <a:lnTo>
                  <a:pt x="60" y="1215"/>
                </a:lnTo>
                <a:lnTo>
                  <a:pt x="84" y="1174"/>
                </a:lnTo>
                <a:lnTo>
                  <a:pt x="169" y="1051"/>
                </a:lnTo>
                <a:lnTo>
                  <a:pt x="242" y="942"/>
                </a:lnTo>
                <a:lnTo>
                  <a:pt x="314" y="847"/>
                </a:lnTo>
                <a:lnTo>
                  <a:pt x="350" y="792"/>
                </a:lnTo>
                <a:lnTo>
                  <a:pt x="363" y="765"/>
                </a:lnTo>
                <a:lnTo>
                  <a:pt x="375" y="738"/>
                </a:lnTo>
                <a:lnTo>
                  <a:pt x="387" y="710"/>
                </a:lnTo>
                <a:lnTo>
                  <a:pt x="411" y="669"/>
                </a:lnTo>
                <a:lnTo>
                  <a:pt x="447" y="601"/>
                </a:lnTo>
                <a:lnTo>
                  <a:pt x="508" y="478"/>
                </a:lnTo>
                <a:lnTo>
                  <a:pt x="544" y="342"/>
                </a:lnTo>
                <a:lnTo>
                  <a:pt x="568" y="205"/>
                </a:lnTo>
                <a:lnTo>
                  <a:pt x="592" y="82"/>
                </a:lnTo>
                <a:lnTo>
                  <a:pt x="617" y="28"/>
                </a:lnTo>
                <a:lnTo>
                  <a:pt x="617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3913200" y="3873600"/>
            <a:ext cx="1363320" cy="823680"/>
            <a:chOff x="3913200" y="3873600"/>
            <a:chExt cx="1363320" cy="823680"/>
          </a:xfrm>
        </p:grpSpPr>
        <p:sp>
          <p:nvSpPr>
            <p:cNvPr id="554" name=""/>
            <p:cNvSpPr/>
            <p:nvPr/>
          </p:nvSpPr>
          <p:spPr>
            <a:xfrm>
              <a:off x="3913200" y="3873600"/>
              <a:ext cx="1228680" cy="75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46480" y="4502160"/>
              <a:ext cx="230040" cy="195120"/>
            </a:xfrm>
            <a:custGeom>
              <a:avLst/>
              <a:gdLst/>
              <a:ahLst/>
              <a:rect l="l" t="t" r="r" b="b"/>
              <a:pathLst>
                <a:path w="145" h="123">
                  <a:moveTo>
                    <a:pt x="0" y="123"/>
                  </a:moveTo>
                  <a:lnTo>
                    <a:pt x="145" y="123"/>
                  </a:lnTo>
                  <a:lnTo>
                    <a:pt x="72" y="0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3989160" y="4329000"/>
            <a:ext cx="685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ux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03120" y="177840"/>
            <a:ext cx="57186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trições de vazão mínim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ecologia, navegação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200400" y="17874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529320" y="433692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929120" y="359244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5029200"/>
            <a:ext cx="304920" cy="304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016640" y="4983120"/>
            <a:ext cx="1995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ção de cont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14880" y="4572000"/>
            <a:ext cx="106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964280" y="4444920"/>
            <a:ext cx="793080" cy="1041840"/>
            <a:chOff x="7964280" y="4444920"/>
            <a:chExt cx="793080" cy="1041840"/>
          </a:xfrm>
        </p:grpSpPr>
        <p:sp>
          <p:nvSpPr>
            <p:cNvPr id="566" name=""/>
            <p:cNvSpPr/>
            <p:nvPr/>
          </p:nvSpPr>
          <p:spPr>
            <a:xfrm>
              <a:off x="7965720" y="4444920"/>
              <a:ext cx="38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965000" y="518148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964280" y="4813200"/>
              <a:ext cx="793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r o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582840" y="1366920"/>
            <a:ext cx="7233840" cy="4500360"/>
            <a:chOff x="582840" y="1366920"/>
            <a:chExt cx="7233840" cy="4500360"/>
          </a:xfrm>
        </p:grpSpPr>
        <p:grpSp>
          <p:nvGrpSpPr>
            <p:cNvPr id="570" name=""/>
            <p:cNvGrpSpPr/>
            <p:nvPr/>
          </p:nvGrpSpPr>
          <p:grpSpPr>
            <a:xfrm>
              <a:off x="1381680" y="1366920"/>
              <a:ext cx="6435000" cy="2839680"/>
              <a:chOff x="1381680" y="1366920"/>
              <a:chExt cx="6435000" cy="2839680"/>
            </a:xfrm>
          </p:grpSpPr>
          <p:sp>
            <p:nvSpPr>
              <p:cNvPr id="571" name=""/>
              <p:cNvSpPr/>
              <p:nvPr/>
            </p:nvSpPr>
            <p:spPr>
              <a:xfrm>
                <a:off x="3229560" y="1366920"/>
                <a:ext cx="18630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mín = 2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953680" y="3809880"/>
                <a:ext cx="18630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mín = 9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810680" y="3124080"/>
                <a:ext cx="18630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mín = 7,0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81680" y="2971800"/>
                <a:ext cx="186300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imes New Roman"/>
                  </a:rPr>
                  <a:t>Qmín = 4,5 m³/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582840" y="5470560"/>
              <a:ext cx="23749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Qmín</a:t>
              </a: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: vazão mín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-36360" y="928800"/>
            <a:ext cx="7745400" cy="4162320"/>
          </a:xfrm>
          <a:custGeom>
            <a:avLst/>
            <a:gdLst/>
            <a:ahLst/>
            <a:rect l="l" t="t" r="r" b="b"/>
            <a:pathLst>
              <a:path w="4879" h="2622">
                <a:moveTo>
                  <a:pt x="4879" y="2398"/>
                </a:moveTo>
                <a:cubicBezTo>
                  <a:pt x="4867" y="2365"/>
                  <a:pt x="4865" y="2327"/>
                  <a:pt x="4853" y="2295"/>
                </a:cubicBezTo>
                <a:cubicBezTo>
                  <a:pt x="4829" y="2233"/>
                  <a:pt x="4756" y="2205"/>
                  <a:pt x="4716" y="2157"/>
                </a:cubicBezTo>
                <a:cubicBezTo>
                  <a:pt x="4690" y="2126"/>
                  <a:pt x="4684" y="2090"/>
                  <a:pt x="4655" y="2063"/>
                </a:cubicBezTo>
                <a:cubicBezTo>
                  <a:pt x="4638" y="2007"/>
                  <a:pt x="4592" y="1958"/>
                  <a:pt x="4561" y="1908"/>
                </a:cubicBezTo>
                <a:cubicBezTo>
                  <a:pt x="4533" y="1863"/>
                  <a:pt x="4524" y="1813"/>
                  <a:pt x="4492" y="1771"/>
                </a:cubicBezTo>
                <a:cubicBezTo>
                  <a:pt x="4467" y="1737"/>
                  <a:pt x="4426" y="1722"/>
                  <a:pt x="4397" y="1693"/>
                </a:cubicBezTo>
                <a:cubicBezTo>
                  <a:pt x="4333" y="1629"/>
                  <a:pt x="4274" y="1564"/>
                  <a:pt x="4208" y="1504"/>
                </a:cubicBezTo>
                <a:cubicBezTo>
                  <a:pt x="4157" y="1458"/>
                  <a:pt x="4120" y="1404"/>
                  <a:pt x="4079" y="1349"/>
                </a:cubicBezTo>
                <a:cubicBezTo>
                  <a:pt x="4045" y="1303"/>
                  <a:pt x="3988" y="1281"/>
                  <a:pt x="3950" y="1238"/>
                </a:cubicBezTo>
                <a:cubicBezTo>
                  <a:pt x="3864" y="1140"/>
                  <a:pt x="3764" y="1068"/>
                  <a:pt x="3658" y="997"/>
                </a:cubicBezTo>
                <a:cubicBezTo>
                  <a:pt x="3643" y="987"/>
                  <a:pt x="3629" y="974"/>
                  <a:pt x="3615" y="962"/>
                </a:cubicBezTo>
                <a:cubicBezTo>
                  <a:pt x="3603" y="951"/>
                  <a:pt x="3594" y="937"/>
                  <a:pt x="3581" y="928"/>
                </a:cubicBezTo>
                <a:cubicBezTo>
                  <a:pt x="3515" y="882"/>
                  <a:pt x="3368" y="865"/>
                  <a:pt x="3288" y="842"/>
                </a:cubicBezTo>
                <a:cubicBezTo>
                  <a:pt x="3211" y="791"/>
                  <a:pt x="3140" y="701"/>
                  <a:pt x="3048" y="679"/>
                </a:cubicBezTo>
                <a:cubicBezTo>
                  <a:pt x="2985" y="638"/>
                  <a:pt x="2967" y="570"/>
                  <a:pt x="2919" y="515"/>
                </a:cubicBezTo>
                <a:cubicBezTo>
                  <a:pt x="2882" y="473"/>
                  <a:pt x="2849" y="469"/>
                  <a:pt x="2807" y="438"/>
                </a:cubicBezTo>
                <a:cubicBezTo>
                  <a:pt x="2752" y="397"/>
                  <a:pt x="2770" y="413"/>
                  <a:pt x="2730" y="352"/>
                </a:cubicBezTo>
                <a:cubicBezTo>
                  <a:pt x="2717" y="332"/>
                  <a:pt x="2684" y="342"/>
                  <a:pt x="2661" y="335"/>
                </a:cubicBezTo>
                <a:cubicBezTo>
                  <a:pt x="2645" y="324"/>
                  <a:pt x="2625" y="320"/>
                  <a:pt x="2609" y="309"/>
                </a:cubicBezTo>
                <a:cubicBezTo>
                  <a:pt x="2599" y="302"/>
                  <a:pt x="2594" y="289"/>
                  <a:pt x="2584" y="283"/>
                </a:cubicBezTo>
                <a:cubicBezTo>
                  <a:pt x="2553" y="264"/>
                  <a:pt x="2507" y="249"/>
                  <a:pt x="2472" y="240"/>
                </a:cubicBezTo>
                <a:cubicBezTo>
                  <a:pt x="2386" y="184"/>
                  <a:pt x="2290" y="157"/>
                  <a:pt x="2188" y="146"/>
                </a:cubicBezTo>
                <a:cubicBezTo>
                  <a:pt x="2154" y="137"/>
                  <a:pt x="2119" y="130"/>
                  <a:pt x="2085" y="120"/>
                </a:cubicBezTo>
                <a:cubicBezTo>
                  <a:pt x="2055" y="111"/>
                  <a:pt x="2029" y="95"/>
                  <a:pt x="1999" y="86"/>
                </a:cubicBezTo>
                <a:cubicBezTo>
                  <a:pt x="1946" y="30"/>
                  <a:pt x="1871" y="22"/>
                  <a:pt x="1801" y="0"/>
                </a:cubicBezTo>
                <a:cubicBezTo>
                  <a:pt x="1788" y="1"/>
                  <a:pt x="1684" y="11"/>
                  <a:pt x="1664" y="17"/>
                </a:cubicBezTo>
                <a:cubicBezTo>
                  <a:pt x="1654" y="20"/>
                  <a:pt x="1648" y="33"/>
                  <a:pt x="1638" y="34"/>
                </a:cubicBezTo>
                <a:cubicBezTo>
                  <a:pt x="1570" y="42"/>
                  <a:pt x="1501" y="40"/>
                  <a:pt x="1432" y="43"/>
                </a:cubicBezTo>
                <a:cubicBezTo>
                  <a:pt x="1339" y="55"/>
                  <a:pt x="1252" y="87"/>
                  <a:pt x="1165" y="120"/>
                </a:cubicBezTo>
                <a:cubicBezTo>
                  <a:pt x="1107" y="142"/>
                  <a:pt x="1044" y="143"/>
                  <a:pt x="984" y="154"/>
                </a:cubicBezTo>
                <a:cubicBezTo>
                  <a:pt x="802" y="148"/>
                  <a:pt x="739" y="149"/>
                  <a:pt x="589" y="103"/>
                </a:cubicBezTo>
                <a:cubicBezTo>
                  <a:pt x="563" y="106"/>
                  <a:pt x="537" y="106"/>
                  <a:pt x="512" y="111"/>
                </a:cubicBezTo>
                <a:cubicBezTo>
                  <a:pt x="494" y="115"/>
                  <a:pt x="475" y="119"/>
                  <a:pt x="460" y="129"/>
                </a:cubicBezTo>
                <a:cubicBezTo>
                  <a:pt x="443" y="140"/>
                  <a:pt x="428" y="158"/>
                  <a:pt x="408" y="163"/>
                </a:cubicBezTo>
                <a:cubicBezTo>
                  <a:pt x="341" y="181"/>
                  <a:pt x="285" y="220"/>
                  <a:pt x="219" y="240"/>
                </a:cubicBezTo>
                <a:cubicBezTo>
                  <a:pt x="193" y="267"/>
                  <a:pt x="160" y="283"/>
                  <a:pt x="133" y="309"/>
                </a:cubicBezTo>
                <a:cubicBezTo>
                  <a:pt x="116" y="364"/>
                  <a:pt x="67" y="477"/>
                  <a:pt x="22" y="507"/>
                </a:cubicBezTo>
                <a:cubicBezTo>
                  <a:pt x="0" y="571"/>
                  <a:pt x="0" y="556"/>
                  <a:pt x="22" y="619"/>
                </a:cubicBezTo>
                <a:cubicBezTo>
                  <a:pt x="16" y="686"/>
                  <a:pt x="1" y="741"/>
                  <a:pt x="39" y="799"/>
                </a:cubicBezTo>
                <a:cubicBezTo>
                  <a:pt x="46" y="855"/>
                  <a:pt x="51" y="907"/>
                  <a:pt x="82" y="954"/>
                </a:cubicBezTo>
                <a:cubicBezTo>
                  <a:pt x="96" y="1010"/>
                  <a:pt x="100" y="1050"/>
                  <a:pt x="142" y="1091"/>
                </a:cubicBezTo>
                <a:cubicBezTo>
                  <a:pt x="159" y="1125"/>
                  <a:pt x="182" y="1145"/>
                  <a:pt x="202" y="1177"/>
                </a:cubicBezTo>
                <a:cubicBezTo>
                  <a:pt x="226" y="1215"/>
                  <a:pt x="257" y="1250"/>
                  <a:pt x="280" y="1289"/>
                </a:cubicBezTo>
                <a:cubicBezTo>
                  <a:pt x="288" y="1303"/>
                  <a:pt x="293" y="1320"/>
                  <a:pt x="305" y="1332"/>
                </a:cubicBezTo>
                <a:cubicBezTo>
                  <a:pt x="346" y="1373"/>
                  <a:pt x="405" y="1407"/>
                  <a:pt x="451" y="1444"/>
                </a:cubicBezTo>
                <a:cubicBezTo>
                  <a:pt x="501" y="1484"/>
                  <a:pt x="526" y="1519"/>
                  <a:pt x="589" y="1538"/>
                </a:cubicBezTo>
                <a:cubicBezTo>
                  <a:pt x="667" y="1592"/>
                  <a:pt x="767" y="1611"/>
                  <a:pt x="856" y="1642"/>
                </a:cubicBezTo>
                <a:cubicBezTo>
                  <a:pt x="885" y="1652"/>
                  <a:pt x="915" y="1659"/>
                  <a:pt x="941" y="1676"/>
                </a:cubicBezTo>
                <a:cubicBezTo>
                  <a:pt x="950" y="1682"/>
                  <a:pt x="958" y="1688"/>
                  <a:pt x="967" y="1693"/>
                </a:cubicBezTo>
                <a:cubicBezTo>
                  <a:pt x="1016" y="1718"/>
                  <a:pt x="1071" y="1728"/>
                  <a:pt x="1122" y="1745"/>
                </a:cubicBezTo>
                <a:cubicBezTo>
                  <a:pt x="1306" y="1806"/>
                  <a:pt x="1145" y="1762"/>
                  <a:pt x="1242" y="1788"/>
                </a:cubicBezTo>
                <a:cubicBezTo>
                  <a:pt x="1313" y="1840"/>
                  <a:pt x="1372" y="1894"/>
                  <a:pt x="1457" y="1917"/>
                </a:cubicBezTo>
                <a:cubicBezTo>
                  <a:pt x="1539" y="1968"/>
                  <a:pt x="1620" y="1991"/>
                  <a:pt x="1715" y="2011"/>
                </a:cubicBezTo>
                <a:cubicBezTo>
                  <a:pt x="1741" y="2016"/>
                  <a:pt x="1767" y="2022"/>
                  <a:pt x="1793" y="2028"/>
                </a:cubicBezTo>
                <a:cubicBezTo>
                  <a:pt x="1807" y="2031"/>
                  <a:pt x="1836" y="2037"/>
                  <a:pt x="1836" y="2037"/>
                </a:cubicBezTo>
                <a:cubicBezTo>
                  <a:pt x="1926" y="2082"/>
                  <a:pt x="1968" y="2149"/>
                  <a:pt x="2068" y="2175"/>
                </a:cubicBezTo>
                <a:cubicBezTo>
                  <a:pt x="2112" y="2219"/>
                  <a:pt x="2197" y="2294"/>
                  <a:pt x="2257" y="2312"/>
                </a:cubicBezTo>
                <a:cubicBezTo>
                  <a:pt x="2273" y="2364"/>
                  <a:pt x="2310" y="2371"/>
                  <a:pt x="2351" y="2398"/>
                </a:cubicBezTo>
                <a:cubicBezTo>
                  <a:pt x="2514" y="2505"/>
                  <a:pt x="2665" y="2528"/>
                  <a:pt x="2859" y="2544"/>
                </a:cubicBezTo>
                <a:cubicBezTo>
                  <a:pt x="2888" y="2549"/>
                  <a:pt x="2915" y="2565"/>
                  <a:pt x="2945" y="2570"/>
                </a:cubicBezTo>
                <a:cubicBezTo>
                  <a:pt x="2985" y="2577"/>
                  <a:pt x="3025" y="2576"/>
                  <a:pt x="3065" y="2579"/>
                </a:cubicBezTo>
                <a:cubicBezTo>
                  <a:pt x="3223" y="2572"/>
                  <a:pt x="3353" y="2558"/>
                  <a:pt x="3503" y="2527"/>
                </a:cubicBezTo>
                <a:cubicBezTo>
                  <a:pt x="3593" y="2533"/>
                  <a:pt x="3639" y="2537"/>
                  <a:pt x="3718" y="2553"/>
                </a:cubicBezTo>
                <a:cubicBezTo>
                  <a:pt x="3768" y="2563"/>
                  <a:pt x="3813" y="2587"/>
                  <a:pt x="3864" y="2596"/>
                </a:cubicBezTo>
                <a:cubicBezTo>
                  <a:pt x="3974" y="2616"/>
                  <a:pt x="4089" y="2616"/>
                  <a:pt x="4200" y="2622"/>
                </a:cubicBezTo>
                <a:cubicBezTo>
                  <a:pt x="4266" y="2619"/>
                  <a:pt x="4332" y="2619"/>
                  <a:pt x="4397" y="2613"/>
                </a:cubicBezTo>
                <a:cubicBezTo>
                  <a:pt x="4457" y="2607"/>
                  <a:pt x="4490" y="2577"/>
                  <a:pt x="4544" y="2562"/>
                </a:cubicBezTo>
                <a:cubicBezTo>
                  <a:pt x="4619" y="2541"/>
                  <a:pt x="4688" y="2541"/>
                  <a:pt x="4767" y="2536"/>
                </a:cubicBezTo>
                <a:cubicBezTo>
                  <a:pt x="4791" y="2528"/>
                  <a:pt x="4814" y="2522"/>
                  <a:pt x="4836" y="2510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70160" y="-27360"/>
            <a:ext cx="755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Balanço hídrico quantit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azão remanescente (Qrem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zão que resta no manancial após desconto das demandas de montante e 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rem = Qdisp - Soma (Qcap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montante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vazão remanescente deve ser igual ou maior que a vazão de restrição mín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rem </a:t>
            </a:r>
            <a:r>
              <a:rPr b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Qm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2437200" y="76320"/>
            <a:ext cx="45345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lanço hídrico quanti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50760" y="623880"/>
            <a:ext cx="899640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2437200" y="76320"/>
            <a:ext cx="45345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lanço hídrico quanti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69840" y="604800"/>
            <a:ext cx="89773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-98640" y="836280"/>
            <a:ext cx="92422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0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rt. 12. Estão sujeitos a outorga pelo Poder Público os direitos dos seguintes usos de recursos hídrico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 - derivação ou captação de parcela da água existente em um corpo de água para consumo final, inclusive abastecimento público, ou insumo de processo produtiv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I - extração de água de aqüífero subterrâneo para consumo final ou insumo de processo produtiv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III -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lançamento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 em corpo de água de esgotos e demais resíduos líquidos ou gasosos, tratados ou não, com o fim de sua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diluição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, transporte ou disposição final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V - aproveitamento dos potenciais hidrelétrico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 - outros usos que alterem o regime, a quantidade ou a qualidade da água existente em um corpo de ág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11600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strumentos da PNR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i n.º 9.433/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437200" y="76320"/>
            <a:ext cx="45345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lanço hídrico quanti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69840" y="623880"/>
            <a:ext cx="897732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2437200" y="76320"/>
            <a:ext cx="45345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lanço hídrico quanti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50760" y="623880"/>
            <a:ext cx="89964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324000" y="2205000"/>
            <a:ext cx="15112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197360" y="2133720"/>
            <a:ext cx="6823800" cy="22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Times New Roman"/>
              </a:rPr>
              <a:t>Outorga de Lançament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5000" spc="-1" strike="noStrike">
                <a:solidFill>
                  <a:srgbClr val="003399"/>
                </a:solidFill>
                <a:latin typeface="Times New Roman"/>
              </a:rPr>
              <a:t>de Efluent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ituações cláss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3460680" y="5754600"/>
            <a:ext cx="26038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ção ori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3924000" y="5754600"/>
            <a:ext cx="167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çã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924000" y="5754600"/>
            <a:ext cx="167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çã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3924000" y="5754600"/>
            <a:ext cx="16740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uação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7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1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9" name=""/>
          <p:cNvSpPr/>
          <p:nvPr/>
        </p:nvSpPr>
        <p:spPr>
          <a:xfrm>
            <a:off x="3397320" y="6232680"/>
            <a:ext cx="1819080" cy="61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ÓX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885280" y="6391440"/>
            <a:ext cx="298332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que na tabela para edit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76160" y="-3528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çõe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Reativas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x </a:t>
            </a:r>
            <a:r>
              <a:rPr b="1" lang="en-US" sz="4000" spc="-1" strike="noStrike" u="sng">
                <a:solidFill>
                  <a:srgbClr val="3333cc"/>
                </a:solidFill>
                <a:uFillTx/>
                <a:latin typeface="Times New Roman"/>
              </a:rPr>
              <a:t>Pró-ativ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10880" y="620640"/>
            <a:ext cx="9040680" cy="59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Quantos usuários de água bruta existem no Brasil?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0" lang="en-US" sz="2600" spc="-1" strike="noStrike">
                <a:solidFill>
                  <a:srgbClr val="ff0000"/>
                </a:solidFill>
                <a:latin typeface="Times New Roman"/>
              </a:rPr>
              <a:t>4 milhõ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Quantos estão regularizados?   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0" lang="en-US" sz="2600" spc="-1" strike="noStrike">
                <a:solidFill>
                  <a:srgbClr val="0066ff"/>
                </a:solidFill>
                <a:latin typeface="Times New Roman"/>
              </a:rPr>
              <a:t>95 mi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r que uma diferença tão grand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uco conhecimento da legislação por parte dos usuá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ituições públicas deficientes 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ra-estrutur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ssoal técnico especializad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rocracia excessiva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ividades de outorga baseadas em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Balcã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icitações via formulários impres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álise dos pedidos de outorga caso a c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 que fazer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ampanhas de Regular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Marcos Regulatórios de Uso da Á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dastro Nacional de Usuários da Á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acto de Comitê para redução de polu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5454720" y="5589720"/>
            <a:ext cx="2072880" cy="1080720"/>
            <a:chOff x="5454720" y="5589720"/>
            <a:chExt cx="2072880" cy="1080720"/>
          </a:xfrm>
        </p:grpSpPr>
        <p:sp>
          <p:nvSpPr>
            <p:cNvPr id="604" name=""/>
            <p:cNvSpPr/>
            <p:nvPr/>
          </p:nvSpPr>
          <p:spPr>
            <a:xfrm>
              <a:off x="5454720" y="5589720"/>
              <a:ext cx="432000" cy="1080720"/>
            </a:xfrm>
            <a:custGeom>
              <a:avLst/>
              <a:gdLst>
                <a:gd name="textAreaLeft" fmla="*/ 0 w 432000"/>
                <a:gd name="textAreaRight" fmla="*/ 155880 w 432000"/>
                <a:gd name="textAreaTop" fmla="*/ 28080 h 1080720"/>
                <a:gd name="textAreaBottom" fmla="*/ 1052640 h 108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848920" y="5792400"/>
              <a:ext cx="16786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3333cc"/>
                  </a:solidFill>
                  <a:latin typeface="Times New Roman"/>
                </a:rPr>
                <a:t>Proativ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5867280" y="3789360"/>
            <a:ext cx="1845720" cy="933480"/>
            <a:chOff x="5867280" y="3789360"/>
            <a:chExt cx="1845720" cy="933480"/>
          </a:xfrm>
        </p:grpSpPr>
        <p:sp>
          <p:nvSpPr>
            <p:cNvPr id="607" name=""/>
            <p:cNvSpPr/>
            <p:nvPr/>
          </p:nvSpPr>
          <p:spPr>
            <a:xfrm>
              <a:off x="5867280" y="3789360"/>
              <a:ext cx="356400" cy="933480"/>
            </a:xfrm>
            <a:custGeom>
              <a:avLst/>
              <a:gdLst>
                <a:gd name="textAreaLeft" fmla="*/ 0 w 356400"/>
                <a:gd name="textAreaRight" fmla="*/ 128520 w 356400"/>
                <a:gd name="textAreaTop" fmla="*/ 24120 h 933480"/>
                <a:gd name="textAreaBottom" fmla="*/ 909360 h 9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192720" y="3962520"/>
              <a:ext cx="1520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Reativ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" descr=""/>
          <p:cNvPicPr/>
          <p:nvPr/>
        </p:nvPicPr>
        <p:blipFill>
          <a:blip r:embed="rId1"/>
          <a:srcRect l="1091" t="987" r="77224" b="92265"/>
          <a:stretch/>
        </p:blipFill>
        <p:spPr>
          <a:xfrm>
            <a:off x="0" y="0"/>
            <a:ext cx="6516720" cy="28162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611280" y="1566720"/>
            <a:ext cx="7705800" cy="47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99"/>
                </a:solidFill>
                <a:latin typeface="Times New Roman"/>
              </a:rPr>
              <a:t>Superintendência de Outorga e Cobranç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Times New Roman"/>
              </a:rPr>
              <a:t>Luciano Meneses Cardoso da Silva, D.E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Gerente de Outo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pecialista em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lmeneses@ana.gov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.:  (61) 2109-525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www.ana.gov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Acesse o Portal do Governo Brasileir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36000" y="6315120"/>
            <a:ext cx="1908000" cy="5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6000" y="2282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strumentos da PNR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Lei n.º 9.433/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98640" y="1523520"/>
            <a:ext cx="9063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orga de direito de uso de recursos híd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. 13 “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da outorg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rá condicionada às prioridades de uso estabelecidas nos Planos de Recursos Hídricos 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verá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speita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 classe em que o corpo hídrico estive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quadrad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a manutenção de condições adequadas ao transporte aquaviário, quando for o cas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único. “A outorga de uso dos recursos hídricos deverá preservar o uso múltiplo dest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324000" y="907920"/>
            <a:ext cx="84582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SCALAS DE TRABALHO</a:t>
            </a:r>
            <a:br>
              <a:rPr sz="48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ticulação entre a Outorga e o Licenciamento Ambient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6480" y="1440"/>
            <a:ext cx="9137520" cy="685656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3276720" y="3716280"/>
            <a:ext cx="718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Webdings"/>
                <a:ea typeface="Webdings"/>
              </a:rPr>
              <a:t>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2987640" y="635040"/>
            <a:ext cx="2460600" cy="2362320"/>
            <a:chOff x="2987640" y="635040"/>
            <a:chExt cx="2460600" cy="2362320"/>
          </a:xfrm>
        </p:grpSpPr>
        <p:grpSp>
          <p:nvGrpSpPr>
            <p:cNvPr id="616" name=""/>
            <p:cNvGrpSpPr/>
            <p:nvPr/>
          </p:nvGrpSpPr>
          <p:grpSpPr>
            <a:xfrm>
              <a:off x="3131640" y="635040"/>
              <a:ext cx="2316600" cy="2289240"/>
              <a:chOff x="3131640" y="635040"/>
              <a:chExt cx="2316600" cy="2289240"/>
            </a:xfrm>
          </p:grpSpPr>
          <p:sp>
            <p:nvSpPr>
              <p:cNvPr id="617" name=""/>
              <p:cNvSpPr/>
              <p:nvPr/>
            </p:nvSpPr>
            <p:spPr>
              <a:xfrm flipH="1">
                <a:off x="3850920" y="1268280"/>
                <a:ext cx="1081080" cy="6480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3131640" y="1268280"/>
                <a:ext cx="1800360" cy="12970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4571640" y="1268280"/>
                <a:ext cx="360360" cy="16560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873680" y="635040"/>
                <a:ext cx="574560" cy="1008360"/>
              </a:xfrm>
              <a:prstGeom prst="rect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2987640" y="249228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427640" y="285264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08360" y="191628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325440" y="3933720"/>
            <a:ext cx="6335640" cy="2376720"/>
            <a:chOff x="325440" y="3933720"/>
            <a:chExt cx="6335640" cy="2376720"/>
          </a:xfrm>
        </p:grpSpPr>
        <p:grpSp>
          <p:nvGrpSpPr>
            <p:cNvPr id="625" name=""/>
            <p:cNvGrpSpPr/>
            <p:nvPr/>
          </p:nvGrpSpPr>
          <p:grpSpPr>
            <a:xfrm>
              <a:off x="325440" y="4076640"/>
              <a:ext cx="6191280" cy="2233800"/>
              <a:chOff x="325440" y="4076640"/>
              <a:chExt cx="6191280" cy="2233800"/>
            </a:xfrm>
          </p:grpSpPr>
          <p:sp>
            <p:nvSpPr>
              <p:cNvPr id="626" name=""/>
              <p:cNvSpPr/>
              <p:nvPr/>
            </p:nvSpPr>
            <p:spPr>
              <a:xfrm>
                <a:off x="325440" y="5302080"/>
                <a:ext cx="574560" cy="1008360"/>
              </a:xfrm>
              <a:prstGeom prst="rect">
                <a:avLst/>
              </a:prstGeom>
              <a:noFill/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60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826920" y="4723920"/>
                <a:ext cx="2521080" cy="10810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26920" y="5805360"/>
                <a:ext cx="2160720" cy="144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826920" y="4076640"/>
                <a:ext cx="5689800" cy="17287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>
              <a:off x="2898720" y="585612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16720" y="393372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348000" y="4724280"/>
              <a:ext cx="144360" cy="144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203640" y="3789360"/>
            <a:ext cx="5674680" cy="2160720"/>
            <a:chOff x="3203640" y="3789360"/>
            <a:chExt cx="5674680" cy="2160720"/>
          </a:xfrm>
        </p:grpSpPr>
        <p:sp>
          <p:nvSpPr>
            <p:cNvPr id="634" name=""/>
            <p:cNvSpPr/>
            <p:nvPr/>
          </p:nvSpPr>
          <p:spPr>
            <a:xfrm>
              <a:off x="3203640" y="3789360"/>
              <a:ext cx="792000" cy="647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181560" y="5446800"/>
              <a:ext cx="649440" cy="503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79600" y="5443560"/>
              <a:ext cx="199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fluência dire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2987640" y="3645000"/>
            <a:ext cx="6097320" cy="2952720"/>
            <a:chOff x="2987640" y="3645000"/>
            <a:chExt cx="6097320" cy="2952720"/>
          </a:xfrm>
        </p:grpSpPr>
        <p:sp>
          <p:nvSpPr>
            <p:cNvPr id="638" name=""/>
            <p:cNvSpPr/>
            <p:nvPr/>
          </p:nvSpPr>
          <p:spPr>
            <a:xfrm>
              <a:off x="2987640" y="3645000"/>
              <a:ext cx="1440000" cy="936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181560" y="6094440"/>
              <a:ext cx="649440" cy="503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874200" y="6129360"/>
              <a:ext cx="22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fluência indire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601200" y="41400"/>
            <a:ext cx="81072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 que cada órgão faz? Uma questão de esc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3564360" y="65160"/>
            <a:ext cx="232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Deveria a autoridade outorgante realizar a análise de todos os parâmetros de qualidade relacionados na Norma ou apenas daqueles parâmetros que afetam significativamente os usos econômicos dos recursos hídricos? Ou daqueles parâmetros exclusivamente auto-depuráve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aberia à área ambiental a análise dos parâmetros que afetam a preservação ambiental? Ou seja, todos? E a questão de esca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Haveria duplicidade de trabalho pelo Poder Público com essa abordag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3564360" y="65160"/>
            <a:ext cx="232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ria a outorga para lançamento de efluentes ser emitida pela área ambiental? Ou seja, fazer dessa análise parte apenas do licenciamento e não da outorg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684360" y="1341360"/>
            <a:ext cx="777708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obtenção da Outorga dá direito ao uso do recurso hídrico pelo requerente, ma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ã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 direito de “ligar a sua bomba”, que, em outras palavras, significa fazer funcionar o seu empreendimen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É o licenciamento ambiental que autoriza o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uncionament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o empreendimen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96720" y="220680"/>
            <a:ext cx="73281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torga x Licenciamento Ambien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250920" y="1413000"/>
            <a:ext cx="8669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outorga é um instrumen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ciplinad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e busca 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dename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s usos e usuários de água, dentro de um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ógica sistêmi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acia hidrográfica), de modo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itar confli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a garantir o múltiplo uso das águas, su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tentabilid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cionalid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8436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 que se busca com a outorg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vocaçõ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88920" y="1160640"/>
            <a:ext cx="8966160" cy="54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 grandes aglomerados urbanos estão concentrados às margens do Paraíba do Sul, mas fazem seus lançamentos de esgotos em afluentes estaduais (sem capacidade de diluiçã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 grande maioria dos casos, os esgotos exigem água do rio Paraíba do Sul para sua dilu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instituição da cobrança apenas para usuários do rio Paraíba do Sul privilegia os usuários dos afluentes estadu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926640" y="333360"/>
            <a:ext cx="7157520" cy="823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mplos de comprometimento do rio Paraíba do 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r cargas lançadas em rios estaduais aflu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1186920" y="1687680"/>
            <a:ext cx="6122880" cy="3507120"/>
            <a:chOff x="1186920" y="1687680"/>
            <a:chExt cx="6122880" cy="3507120"/>
          </a:xfrm>
        </p:grpSpPr>
        <p:grpSp>
          <p:nvGrpSpPr>
            <p:cNvPr id="654" name=""/>
            <p:cNvGrpSpPr/>
            <p:nvPr/>
          </p:nvGrpSpPr>
          <p:grpSpPr>
            <a:xfrm>
              <a:off x="1186920" y="1687680"/>
              <a:ext cx="1850760" cy="785520"/>
              <a:chOff x="1186920" y="1687680"/>
              <a:chExt cx="1850760" cy="785520"/>
            </a:xfrm>
          </p:grpSpPr>
          <p:grpSp>
            <p:nvGrpSpPr>
              <p:cNvPr id="655" name=""/>
              <p:cNvGrpSpPr/>
              <p:nvPr/>
            </p:nvGrpSpPr>
            <p:grpSpPr>
              <a:xfrm>
                <a:off x="1763640" y="1751040"/>
                <a:ext cx="531360" cy="566280"/>
                <a:chOff x="1763640" y="1751040"/>
                <a:chExt cx="531360" cy="56628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1763640" y="1884600"/>
                  <a:ext cx="53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763640" y="1981440"/>
                  <a:ext cx="53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763640" y="2076480"/>
                  <a:ext cx="53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1763640" y="2172960"/>
                  <a:ext cx="53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1838880" y="1756080"/>
                  <a:ext cx="0" cy="55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1931040" y="1757520"/>
                  <a:ext cx="0" cy="55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021760" y="1757520"/>
                  <a:ext cx="0" cy="559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2124000" y="1751040"/>
                  <a:ext cx="0" cy="55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2202840" y="1756080"/>
                  <a:ext cx="0" cy="55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5" name=""/>
              <p:cNvSpPr/>
              <p:nvPr/>
            </p:nvSpPr>
            <p:spPr>
              <a:xfrm>
                <a:off x="2291760" y="1687680"/>
                <a:ext cx="74592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Jacareí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1186920" y="2092320"/>
                <a:ext cx="528840" cy="14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20619000">
                <a:off x="1230120" y="2130480"/>
                <a:ext cx="5248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Times New Roman"/>
                  </a:rPr>
                  <a:t>Lanç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1560960" y="4018680"/>
              <a:ext cx="2097720" cy="669600"/>
              <a:chOff x="1560960" y="4018680"/>
              <a:chExt cx="2097720" cy="669600"/>
            </a:xfrm>
          </p:grpSpPr>
          <p:grpSp>
            <p:nvGrpSpPr>
              <p:cNvPr id="669" name=""/>
              <p:cNvGrpSpPr/>
              <p:nvPr/>
            </p:nvGrpSpPr>
            <p:grpSpPr>
              <a:xfrm>
                <a:off x="1976400" y="4156920"/>
                <a:ext cx="505440" cy="509760"/>
                <a:chOff x="1976400" y="4156920"/>
                <a:chExt cx="505440" cy="50976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1978560" y="4274640"/>
                  <a:ext cx="50328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1977840" y="4362120"/>
                  <a:ext cx="50328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1977120" y="4447800"/>
                  <a:ext cx="50328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1976400" y="4534920"/>
                  <a:ext cx="503280" cy="3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 flipH="1">
                  <a:off x="2046960" y="4159440"/>
                  <a:ext cx="3600" cy="50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 flipH="1">
                  <a:off x="2134440" y="4161600"/>
                  <a:ext cx="360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H="1">
                  <a:off x="2220120" y="4161960"/>
                  <a:ext cx="360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 flipH="1">
                  <a:off x="2316960" y="4156920"/>
                  <a:ext cx="3600" cy="50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 flipH="1">
                  <a:off x="2391480" y="4161960"/>
                  <a:ext cx="3600" cy="50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 rot="25800">
                <a:off x="2472840" y="4105080"/>
                <a:ext cx="1183320" cy="57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ão José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dos Camp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 flipV="1">
                <a:off x="1560960" y="4271760"/>
                <a:ext cx="335880" cy="10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40800">
                <a:off x="1566000" y="4021560"/>
                <a:ext cx="5248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Times New Roman"/>
                  </a:rPr>
                  <a:t>Lanç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5423040" y="4552200"/>
              <a:ext cx="1886760" cy="642600"/>
              <a:chOff x="5423040" y="4552200"/>
              <a:chExt cx="1886760" cy="642600"/>
            </a:xfrm>
          </p:grpSpPr>
          <p:grpSp>
            <p:nvGrpSpPr>
              <p:cNvPr id="683" name=""/>
              <p:cNvGrpSpPr/>
              <p:nvPr/>
            </p:nvGrpSpPr>
            <p:grpSpPr>
              <a:xfrm>
                <a:off x="5839920" y="4682880"/>
                <a:ext cx="504000" cy="511920"/>
                <a:chOff x="5839920" y="4682880"/>
                <a:chExt cx="504000" cy="511920"/>
              </a:xfrm>
            </p:grpSpPr>
            <p:sp>
              <p:nvSpPr>
                <p:cNvPr id="684" name=""/>
                <p:cNvSpPr/>
                <p:nvPr/>
              </p:nvSpPr>
              <p:spPr>
                <a:xfrm flipV="1">
                  <a:off x="5839920" y="4803480"/>
                  <a:ext cx="5032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flipV="1">
                  <a:off x="5840280" y="4890960"/>
                  <a:ext cx="5032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V="1">
                  <a:off x="5840280" y="4976640"/>
                  <a:ext cx="5032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V="1">
                  <a:off x="5840640" y="5063760"/>
                  <a:ext cx="503280" cy="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911200" y="4688280"/>
                  <a:ext cx="72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998680" y="4689720"/>
                  <a:ext cx="720" cy="50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084360" y="4689360"/>
                  <a:ext cx="720" cy="505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181200" y="4682880"/>
                  <a:ext cx="72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6255720" y="4687560"/>
                  <a:ext cx="720" cy="504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3" name=""/>
              <p:cNvSpPr/>
              <p:nvPr/>
            </p:nvSpPr>
            <p:spPr>
              <a:xfrm rot="21592800">
                <a:off x="6336000" y="4622760"/>
                <a:ext cx="9730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açapav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 flipV="1">
                <a:off x="5423040" y="4805640"/>
                <a:ext cx="336240" cy="9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7800">
                <a:off x="5427720" y="4552560"/>
                <a:ext cx="5248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200" spc="-1" strike="noStrike">
                    <a:solidFill>
                      <a:srgbClr val="000000"/>
                    </a:solidFill>
                    <a:latin typeface="Times New Roman"/>
                  </a:rPr>
                  <a:t>Lanç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6" name=""/>
          <p:cNvGrpSpPr/>
          <p:nvPr/>
        </p:nvGrpSpPr>
        <p:grpSpPr>
          <a:xfrm>
            <a:off x="395280" y="1643400"/>
            <a:ext cx="8412120" cy="4051440"/>
            <a:chOff x="395280" y="1643400"/>
            <a:chExt cx="8412120" cy="4051440"/>
          </a:xfrm>
        </p:grpSpPr>
        <p:grpSp>
          <p:nvGrpSpPr>
            <p:cNvPr id="697" name=""/>
            <p:cNvGrpSpPr/>
            <p:nvPr/>
          </p:nvGrpSpPr>
          <p:grpSpPr>
            <a:xfrm>
              <a:off x="395280" y="1709640"/>
              <a:ext cx="8412120" cy="3985200"/>
              <a:chOff x="395280" y="1709640"/>
              <a:chExt cx="8412120" cy="3985200"/>
            </a:xfrm>
          </p:grpSpPr>
          <p:sp>
            <p:nvSpPr>
              <p:cNvPr id="698" name=""/>
              <p:cNvSpPr/>
              <p:nvPr/>
            </p:nvSpPr>
            <p:spPr>
              <a:xfrm>
                <a:off x="395280" y="2717640"/>
                <a:ext cx="8412120" cy="984240"/>
              </a:xfrm>
              <a:custGeom>
                <a:avLst/>
                <a:gdLst/>
                <a:ahLst/>
                <a:rect l="l" t="t" r="r" b="b"/>
                <a:pathLst>
                  <a:path w="5299" h="620">
                    <a:moveTo>
                      <a:pt x="0" y="0"/>
                    </a:moveTo>
                    <a:cubicBezTo>
                      <a:pt x="166" y="87"/>
                      <a:pt x="333" y="174"/>
                      <a:pt x="499" y="227"/>
                    </a:cubicBezTo>
                    <a:cubicBezTo>
                      <a:pt x="665" y="280"/>
                      <a:pt x="809" y="325"/>
                      <a:pt x="998" y="318"/>
                    </a:cubicBezTo>
                    <a:cubicBezTo>
                      <a:pt x="1187" y="311"/>
                      <a:pt x="1421" y="197"/>
                      <a:pt x="1633" y="182"/>
                    </a:cubicBezTo>
                    <a:cubicBezTo>
                      <a:pt x="1845" y="167"/>
                      <a:pt x="2041" y="167"/>
                      <a:pt x="2268" y="227"/>
                    </a:cubicBezTo>
                    <a:cubicBezTo>
                      <a:pt x="2495" y="287"/>
                      <a:pt x="2760" y="485"/>
                      <a:pt x="2994" y="545"/>
                    </a:cubicBezTo>
                    <a:cubicBezTo>
                      <a:pt x="3228" y="605"/>
                      <a:pt x="3432" y="620"/>
                      <a:pt x="3674" y="590"/>
                    </a:cubicBezTo>
                    <a:cubicBezTo>
                      <a:pt x="3916" y="560"/>
                      <a:pt x="4196" y="370"/>
                      <a:pt x="4445" y="363"/>
                    </a:cubicBezTo>
                    <a:cubicBezTo>
                      <a:pt x="4694" y="356"/>
                      <a:pt x="5043" y="507"/>
                      <a:pt x="5171" y="545"/>
                    </a:cubicBezTo>
                    <a:cubicBezTo>
                      <a:pt x="5299" y="583"/>
                      <a:pt x="5257" y="586"/>
                      <a:pt x="5216" y="590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62920" y="2646360"/>
                <a:ext cx="15202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Ri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Paraíba do Su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172360" y="3222720"/>
                <a:ext cx="43200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68360" y="2933640"/>
                <a:ext cx="358560" cy="2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203640" y="2862360"/>
                <a:ext cx="50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104840" y="1709640"/>
                <a:ext cx="82440" cy="1368360"/>
              </a:xfrm>
              <a:custGeom>
                <a:avLst/>
                <a:gdLst/>
                <a:ahLst/>
                <a:rect l="l" t="t" r="r" b="b"/>
                <a:pathLst>
                  <a:path w="52" h="862">
                    <a:moveTo>
                      <a:pt x="7" y="0"/>
                    </a:moveTo>
                    <a:cubicBezTo>
                      <a:pt x="3" y="94"/>
                      <a:pt x="0" y="189"/>
                      <a:pt x="7" y="272"/>
                    </a:cubicBezTo>
                    <a:cubicBezTo>
                      <a:pt x="14" y="355"/>
                      <a:pt x="52" y="423"/>
                      <a:pt x="52" y="499"/>
                    </a:cubicBezTo>
                    <a:cubicBezTo>
                      <a:pt x="52" y="575"/>
                      <a:pt x="7" y="666"/>
                      <a:pt x="7" y="726"/>
                    </a:cubicBezTo>
                    <a:cubicBezTo>
                      <a:pt x="7" y="786"/>
                      <a:pt x="29" y="824"/>
                      <a:pt x="52" y="862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971640" y="3162240"/>
                <a:ext cx="1296720" cy="1513080"/>
              </a:xfrm>
              <a:custGeom>
                <a:avLst/>
                <a:gdLst/>
                <a:ahLst/>
                <a:rect l="l" t="t" r="r" b="b"/>
                <a:pathLst>
                  <a:path w="817" h="953">
                    <a:moveTo>
                      <a:pt x="0" y="953"/>
                    </a:moveTo>
                    <a:cubicBezTo>
                      <a:pt x="79" y="870"/>
                      <a:pt x="159" y="787"/>
                      <a:pt x="227" y="726"/>
                    </a:cubicBezTo>
                    <a:cubicBezTo>
                      <a:pt x="295" y="665"/>
                      <a:pt x="370" y="658"/>
                      <a:pt x="408" y="590"/>
                    </a:cubicBezTo>
                    <a:cubicBezTo>
                      <a:pt x="446" y="522"/>
                      <a:pt x="416" y="378"/>
                      <a:pt x="454" y="318"/>
                    </a:cubicBezTo>
                    <a:cubicBezTo>
                      <a:pt x="492" y="258"/>
                      <a:pt x="590" y="265"/>
                      <a:pt x="635" y="227"/>
                    </a:cubicBezTo>
                    <a:cubicBezTo>
                      <a:pt x="680" y="189"/>
                      <a:pt x="696" y="129"/>
                      <a:pt x="726" y="91"/>
                    </a:cubicBezTo>
                    <a:cubicBezTo>
                      <a:pt x="756" y="53"/>
                      <a:pt x="786" y="26"/>
                      <a:pt x="817" y="0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4034600">
                <a:off x="4716360" y="3798720"/>
                <a:ext cx="1152720" cy="1800000"/>
              </a:xfrm>
              <a:custGeom>
                <a:avLst/>
                <a:gdLst/>
                <a:ahLst/>
                <a:rect l="l" t="t" r="r" b="b"/>
                <a:pathLst>
                  <a:path w="726" h="1134">
                    <a:moveTo>
                      <a:pt x="0" y="0"/>
                    </a:moveTo>
                    <a:cubicBezTo>
                      <a:pt x="4" y="56"/>
                      <a:pt x="8" y="113"/>
                      <a:pt x="46" y="181"/>
                    </a:cubicBezTo>
                    <a:cubicBezTo>
                      <a:pt x="84" y="249"/>
                      <a:pt x="182" y="332"/>
                      <a:pt x="227" y="408"/>
                    </a:cubicBezTo>
                    <a:cubicBezTo>
                      <a:pt x="272" y="484"/>
                      <a:pt x="280" y="560"/>
                      <a:pt x="318" y="635"/>
                    </a:cubicBezTo>
                    <a:cubicBezTo>
                      <a:pt x="356" y="710"/>
                      <a:pt x="401" y="809"/>
                      <a:pt x="454" y="862"/>
                    </a:cubicBezTo>
                    <a:cubicBezTo>
                      <a:pt x="507" y="915"/>
                      <a:pt x="590" y="908"/>
                      <a:pt x="635" y="953"/>
                    </a:cubicBezTo>
                    <a:cubicBezTo>
                      <a:pt x="680" y="998"/>
                      <a:pt x="703" y="1066"/>
                      <a:pt x="726" y="1134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 rot="16200000">
              <a:off x="463680" y="2036880"/>
              <a:ext cx="10612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io Compri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18787200">
              <a:off x="673560" y="4051440"/>
              <a:ext cx="971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io do Peix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17629200">
              <a:off x="4412520" y="4679280"/>
              <a:ext cx="13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Times New Roman"/>
                </a:rPr>
                <a:t>Rib. Dois Córreg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1143000" y="2252520"/>
            <a:ext cx="7677000" cy="4371480"/>
            <a:chOff x="1143000" y="2252520"/>
            <a:chExt cx="7677000" cy="4371480"/>
          </a:xfrm>
        </p:grpSpPr>
        <p:sp>
          <p:nvSpPr>
            <p:cNvPr id="710" name=""/>
            <p:cNvSpPr/>
            <p:nvPr/>
          </p:nvSpPr>
          <p:spPr>
            <a:xfrm>
              <a:off x="5724360" y="3338640"/>
              <a:ext cx="2975040" cy="398160"/>
            </a:xfrm>
            <a:custGeom>
              <a:avLst/>
              <a:gdLst/>
              <a:ahLst/>
              <a:rect l="l" t="t" r="r" b="b"/>
              <a:pathLst>
                <a:path w="1874" h="251">
                  <a:moveTo>
                    <a:pt x="0" y="244"/>
                  </a:moveTo>
                  <a:cubicBezTo>
                    <a:pt x="42" y="244"/>
                    <a:pt x="84" y="244"/>
                    <a:pt x="138" y="244"/>
                  </a:cubicBezTo>
                  <a:cubicBezTo>
                    <a:pt x="192" y="244"/>
                    <a:pt x="267" y="251"/>
                    <a:pt x="322" y="244"/>
                  </a:cubicBezTo>
                  <a:cubicBezTo>
                    <a:pt x="377" y="237"/>
                    <a:pt x="417" y="219"/>
                    <a:pt x="466" y="204"/>
                  </a:cubicBezTo>
                  <a:cubicBezTo>
                    <a:pt x="515" y="189"/>
                    <a:pt x="571" y="175"/>
                    <a:pt x="618" y="156"/>
                  </a:cubicBezTo>
                  <a:cubicBezTo>
                    <a:pt x="665" y="137"/>
                    <a:pt x="707" y="108"/>
                    <a:pt x="746" y="92"/>
                  </a:cubicBezTo>
                  <a:cubicBezTo>
                    <a:pt x="785" y="76"/>
                    <a:pt x="815" y="69"/>
                    <a:pt x="850" y="60"/>
                  </a:cubicBezTo>
                  <a:cubicBezTo>
                    <a:pt x="885" y="51"/>
                    <a:pt x="921" y="45"/>
                    <a:pt x="954" y="36"/>
                  </a:cubicBezTo>
                  <a:cubicBezTo>
                    <a:pt x="987" y="27"/>
                    <a:pt x="1006" y="8"/>
                    <a:pt x="1050" y="4"/>
                  </a:cubicBezTo>
                  <a:cubicBezTo>
                    <a:pt x="1094" y="0"/>
                    <a:pt x="1158" y="3"/>
                    <a:pt x="1218" y="12"/>
                  </a:cubicBezTo>
                  <a:cubicBezTo>
                    <a:pt x="1278" y="21"/>
                    <a:pt x="1353" y="45"/>
                    <a:pt x="1410" y="60"/>
                  </a:cubicBezTo>
                  <a:cubicBezTo>
                    <a:pt x="1467" y="75"/>
                    <a:pt x="1507" y="83"/>
                    <a:pt x="1562" y="100"/>
                  </a:cubicBezTo>
                  <a:cubicBezTo>
                    <a:pt x="1617" y="117"/>
                    <a:pt x="1686" y="145"/>
                    <a:pt x="1738" y="164"/>
                  </a:cubicBezTo>
                  <a:cubicBezTo>
                    <a:pt x="1790" y="183"/>
                    <a:pt x="1832" y="197"/>
                    <a:pt x="1874" y="212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435640" y="3716280"/>
              <a:ext cx="295200" cy="1090800"/>
            </a:xfrm>
            <a:custGeom>
              <a:avLst/>
              <a:gdLst/>
              <a:ahLst/>
              <a:rect l="l" t="t" r="r" b="b"/>
              <a:pathLst>
                <a:path w="186" h="687">
                  <a:moveTo>
                    <a:pt x="0" y="687"/>
                  </a:moveTo>
                  <a:cubicBezTo>
                    <a:pt x="9" y="658"/>
                    <a:pt x="19" y="629"/>
                    <a:pt x="32" y="595"/>
                  </a:cubicBezTo>
                  <a:cubicBezTo>
                    <a:pt x="45" y="561"/>
                    <a:pt x="67" y="516"/>
                    <a:pt x="80" y="484"/>
                  </a:cubicBezTo>
                  <a:cubicBezTo>
                    <a:pt x="93" y="452"/>
                    <a:pt x="103" y="436"/>
                    <a:pt x="109" y="403"/>
                  </a:cubicBezTo>
                  <a:cubicBezTo>
                    <a:pt x="115" y="370"/>
                    <a:pt x="118" y="320"/>
                    <a:pt x="114" y="288"/>
                  </a:cubicBezTo>
                  <a:cubicBezTo>
                    <a:pt x="110" y="256"/>
                    <a:pt x="89" y="237"/>
                    <a:pt x="85" y="211"/>
                  </a:cubicBezTo>
                  <a:cubicBezTo>
                    <a:pt x="81" y="185"/>
                    <a:pt x="83" y="157"/>
                    <a:pt x="90" y="134"/>
                  </a:cubicBezTo>
                  <a:cubicBezTo>
                    <a:pt x="97" y="111"/>
                    <a:pt x="118" y="91"/>
                    <a:pt x="128" y="72"/>
                  </a:cubicBezTo>
                  <a:cubicBezTo>
                    <a:pt x="138" y="53"/>
                    <a:pt x="142" y="31"/>
                    <a:pt x="152" y="19"/>
                  </a:cubicBezTo>
                  <a:cubicBezTo>
                    <a:pt x="162" y="7"/>
                    <a:pt x="174" y="3"/>
                    <a:pt x="186" y="0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47640" y="3224160"/>
              <a:ext cx="700200" cy="1006560"/>
            </a:xfrm>
            <a:custGeom>
              <a:avLst/>
              <a:gdLst/>
              <a:ahLst/>
              <a:rect l="l" t="t" r="r" b="b"/>
              <a:pathLst>
                <a:path w="441" h="634">
                  <a:moveTo>
                    <a:pt x="0" y="634"/>
                  </a:moveTo>
                  <a:cubicBezTo>
                    <a:pt x="31" y="608"/>
                    <a:pt x="62" y="582"/>
                    <a:pt x="77" y="548"/>
                  </a:cubicBezTo>
                  <a:cubicBezTo>
                    <a:pt x="92" y="514"/>
                    <a:pt x="86" y="467"/>
                    <a:pt x="89" y="432"/>
                  </a:cubicBezTo>
                  <a:cubicBezTo>
                    <a:pt x="92" y="397"/>
                    <a:pt x="86" y="367"/>
                    <a:pt x="97" y="340"/>
                  </a:cubicBezTo>
                  <a:cubicBezTo>
                    <a:pt x="108" y="313"/>
                    <a:pt x="124" y="287"/>
                    <a:pt x="153" y="268"/>
                  </a:cubicBezTo>
                  <a:cubicBezTo>
                    <a:pt x="182" y="249"/>
                    <a:pt x="240" y="251"/>
                    <a:pt x="273" y="228"/>
                  </a:cubicBezTo>
                  <a:cubicBezTo>
                    <a:pt x="306" y="205"/>
                    <a:pt x="327" y="165"/>
                    <a:pt x="349" y="132"/>
                  </a:cubicBezTo>
                  <a:cubicBezTo>
                    <a:pt x="371" y="99"/>
                    <a:pt x="390" y="54"/>
                    <a:pt x="405" y="32"/>
                  </a:cubicBezTo>
                  <a:cubicBezTo>
                    <a:pt x="420" y="10"/>
                    <a:pt x="430" y="5"/>
                    <a:pt x="441" y="0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249640" y="3043080"/>
              <a:ext cx="3439800" cy="682920"/>
            </a:xfrm>
            <a:custGeom>
              <a:avLst/>
              <a:gdLst/>
              <a:ahLst/>
              <a:rect l="l" t="t" r="r" b="b"/>
              <a:pathLst>
                <a:path w="2167" h="430">
                  <a:moveTo>
                    <a:pt x="0" y="113"/>
                  </a:moveTo>
                  <a:cubicBezTo>
                    <a:pt x="8" y="108"/>
                    <a:pt x="17" y="104"/>
                    <a:pt x="43" y="98"/>
                  </a:cubicBezTo>
                  <a:cubicBezTo>
                    <a:pt x="69" y="92"/>
                    <a:pt x="116" y="83"/>
                    <a:pt x="155" y="74"/>
                  </a:cubicBezTo>
                  <a:cubicBezTo>
                    <a:pt x="194" y="65"/>
                    <a:pt x="233" y="52"/>
                    <a:pt x="275" y="42"/>
                  </a:cubicBezTo>
                  <a:cubicBezTo>
                    <a:pt x="317" y="32"/>
                    <a:pt x="360" y="21"/>
                    <a:pt x="407" y="14"/>
                  </a:cubicBezTo>
                  <a:cubicBezTo>
                    <a:pt x="454" y="7"/>
                    <a:pt x="510" y="4"/>
                    <a:pt x="555" y="2"/>
                  </a:cubicBezTo>
                  <a:cubicBezTo>
                    <a:pt x="600" y="0"/>
                    <a:pt x="628" y="1"/>
                    <a:pt x="675" y="2"/>
                  </a:cubicBezTo>
                  <a:cubicBezTo>
                    <a:pt x="722" y="3"/>
                    <a:pt x="789" y="3"/>
                    <a:pt x="835" y="6"/>
                  </a:cubicBezTo>
                  <a:cubicBezTo>
                    <a:pt x="881" y="9"/>
                    <a:pt x="913" y="15"/>
                    <a:pt x="951" y="22"/>
                  </a:cubicBezTo>
                  <a:cubicBezTo>
                    <a:pt x="989" y="29"/>
                    <a:pt x="1023" y="35"/>
                    <a:pt x="1063" y="46"/>
                  </a:cubicBezTo>
                  <a:cubicBezTo>
                    <a:pt x="1103" y="57"/>
                    <a:pt x="1152" y="71"/>
                    <a:pt x="1191" y="86"/>
                  </a:cubicBezTo>
                  <a:cubicBezTo>
                    <a:pt x="1230" y="101"/>
                    <a:pt x="1262" y="120"/>
                    <a:pt x="1299" y="138"/>
                  </a:cubicBezTo>
                  <a:cubicBezTo>
                    <a:pt x="1336" y="156"/>
                    <a:pt x="1373" y="175"/>
                    <a:pt x="1411" y="194"/>
                  </a:cubicBezTo>
                  <a:cubicBezTo>
                    <a:pt x="1449" y="213"/>
                    <a:pt x="1484" y="233"/>
                    <a:pt x="1527" y="254"/>
                  </a:cubicBezTo>
                  <a:cubicBezTo>
                    <a:pt x="1570" y="275"/>
                    <a:pt x="1616" y="297"/>
                    <a:pt x="1667" y="318"/>
                  </a:cubicBezTo>
                  <a:cubicBezTo>
                    <a:pt x="1718" y="339"/>
                    <a:pt x="1786" y="363"/>
                    <a:pt x="1835" y="378"/>
                  </a:cubicBezTo>
                  <a:cubicBezTo>
                    <a:pt x="1884" y="393"/>
                    <a:pt x="1920" y="402"/>
                    <a:pt x="1963" y="410"/>
                  </a:cubicBezTo>
                  <a:cubicBezTo>
                    <a:pt x="2006" y="418"/>
                    <a:pt x="2057" y="423"/>
                    <a:pt x="2091" y="426"/>
                  </a:cubicBezTo>
                  <a:cubicBezTo>
                    <a:pt x="2125" y="429"/>
                    <a:pt x="2146" y="429"/>
                    <a:pt x="2167" y="430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43000" y="2252520"/>
              <a:ext cx="1125360" cy="962280"/>
            </a:xfrm>
            <a:custGeom>
              <a:avLst/>
              <a:gdLst/>
              <a:ahLst/>
              <a:rect l="l" t="t" r="r" b="b"/>
              <a:pathLst>
                <a:path w="709" h="606">
                  <a:moveTo>
                    <a:pt x="28" y="21"/>
                  </a:moveTo>
                  <a:lnTo>
                    <a:pt x="12" y="0"/>
                  </a:lnTo>
                  <a:cubicBezTo>
                    <a:pt x="12" y="8"/>
                    <a:pt x="22" y="48"/>
                    <a:pt x="27" y="69"/>
                  </a:cubicBezTo>
                  <a:cubicBezTo>
                    <a:pt x="32" y="90"/>
                    <a:pt x="39" y="107"/>
                    <a:pt x="42" y="129"/>
                  </a:cubicBezTo>
                  <a:cubicBezTo>
                    <a:pt x="45" y="151"/>
                    <a:pt x="48" y="179"/>
                    <a:pt x="45" y="204"/>
                  </a:cubicBezTo>
                  <a:cubicBezTo>
                    <a:pt x="42" y="229"/>
                    <a:pt x="31" y="258"/>
                    <a:pt x="24" y="282"/>
                  </a:cubicBezTo>
                  <a:cubicBezTo>
                    <a:pt x="17" y="306"/>
                    <a:pt x="6" y="326"/>
                    <a:pt x="3" y="348"/>
                  </a:cubicBezTo>
                  <a:cubicBezTo>
                    <a:pt x="0" y="370"/>
                    <a:pt x="8" y="400"/>
                    <a:pt x="9" y="417"/>
                  </a:cubicBezTo>
                  <a:cubicBezTo>
                    <a:pt x="10" y="434"/>
                    <a:pt x="9" y="437"/>
                    <a:pt x="12" y="450"/>
                  </a:cubicBezTo>
                  <a:cubicBezTo>
                    <a:pt x="15" y="463"/>
                    <a:pt x="19" y="485"/>
                    <a:pt x="30" y="495"/>
                  </a:cubicBezTo>
                  <a:cubicBezTo>
                    <a:pt x="41" y="505"/>
                    <a:pt x="60" y="508"/>
                    <a:pt x="78" y="513"/>
                  </a:cubicBezTo>
                  <a:cubicBezTo>
                    <a:pt x="96" y="518"/>
                    <a:pt x="119" y="522"/>
                    <a:pt x="141" y="528"/>
                  </a:cubicBezTo>
                  <a:cubicBezTo>
                    <a:pt x="163" y="534"/>
                    <a:pt x="189" y="547"/>
                    <a:pt x="210" y="552"/>
                  </a:cubicBezTo>
                  <a:cubicBezTo>
                    <a:pt x="231" y="557"/>
                    <a:pt x="249" y="557"/>
                    <a:pt x="270" y="561"/>
                  </a:cubicBezTo>
                  <a:cubicBezTo>
                    <a:pt x="291" y="565"/>
                    <a:pt x="310" y="573"/>
                    <a:pt x="339" y="576"/>
                  </a:cubicBezTo>
                  <a:cubicBezTo>
                    <a:pt x="368" y="579"/>
                    <a:pt x="415" y="580"/>
                    <a:pt x="447" y="582"/>
                  </a:cubicBezTo>
                  <a:cubicBezTo>
                    <a:pt x="479" y="584"/>
                    <a:pt x="501" y="589"/>
                    <a:pt x="531" y="588"/>
                  </a:cubicBezTo>
                  <a:cubicBezTo>
                    <a:pt x="561" y="587"/>
                    <a:pt x="603" y="577"/>
                    <a:pt x="630" y="576"/>
                  </a:cubicBezTo>
                  <a:cubicBezTo>
                    <a:pt x="657" y="575"/>
                    <a:pt x="683" y="577"/>
                    <a:pt x="696" y="582"/>
                  </a:cubicBezTo>
                  <a:cubicBezTo>
                    <a:pt x="709" y="587"/>
                    <a:pt x="708" y="596"/>
                    <a:pt x="708" y="606"/>
                  </a:cubicBezTo>
                </a:path>
              </a:pathLst>
            </a:custGeom>
            <a:noFill/>
            <a:ln w="284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16200000">
              <a:off x="5364000" y="2795040"/>
              <a:ext cx="647640" cy="6264000"/>
            </a:xfrm>
            <a:custGeom>
              <a:avLst/>
              <a:gdLst>
                <a:gd name="textAreaLeft" fmla="*/ 414000 w 647640"/>
                <a:gd name="textAreaRight" fmla="*/ 648000 w 647640"/>
                <a:gd name="textAreaTop" fmla="*/ 163080 h 6264000"/>
                <a:gd name="textAreaBottom" fmla="*/ 6100920 h 626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332240" y="6257880"/>
              <a:ext cx="2870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recho crítico (DAEE, 2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20588" t="33495" r="19857" b="15916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84840" y="142920"/>
            <a:ext cx="65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es de uso preponderantes para águas do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idas pela Resolução CONAMA nº 357/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18506" t="52762" r="17775" b="26118"/>
          <a:stretch/>
        </p:blipFill>
        <p:spPr>
          <a:xfrm>
            <a:off x="0" y="1957320"/>
            <a:ext cx="9144000" cy="2695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78320" y="307800"/>
            <a:ext cx="7594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imites de concentração para alguns parâ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segundo a resolução CONAMA n.º 357/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Arts. 3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º ao 6º e 14 ao 23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15360" y="5229360"/>
            <a:ext cx="672624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DRÕES DE EFLUENTES (Art. 3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0880" y="5735520"/>
            <a:ext cx="77778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Condições para cada parâmetr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c. do efluente ≤ Padrão de efluente (senão, fere Cona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zões indisponíveis ≤ Vazão do ri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senão, fere Enquadram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0680" y="620640"/>
            <a:ext cx="2820240" cy="2463120"/>
            <a:chOff x="40680" y="620640"/>
            <a:chExt cx="2820240" cy="2463120"/>
          </a:xfrm>
        </p:grpSpPr>
        <p:grpSp>
          <p:nvGrpSpPr>
            <p:cNvPr id="102" name=""/>
            <p:cNvGrpSpPr/>
            <p:nvPr/>
          </p:nvGrpSpPr>
          <p:grpSpPr>
            <a:xfrm>
              <a:off x="471240" y="620640"/>
              <a:ext cx="1871640" cy="1728720"/>
              <a:chOff x="471240" y="620640"/>
              <a:chExt cx="1871640" cy="1728720"/>
            </a:xfrm>
          </p:grpSpPr>
          <p:sp>
            <p:nvSpPr>
              <p:cNvPr id="103" name=""/>
              <p:cNvSpPr/>
              <p:nvPr/>
            </p:nvSpPr>
            <p:spPr>
              <a:xfrm>
                <a:off x="687240" y="765000"/>
                <a:ext cx="1512720" cy="1584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71240" y="620640"/>
                <a:ext cx="1871640" cy="21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687240" y="1989000"/>
              <a:ext cx="1512720" cy="360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680" y="2443320"/>
              <a:ext cx="2820240" cy="64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Vol. efluente (Qef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Concentração Efluente (Cef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74200" y="123840"/>
            <a:ext cx="772128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álculo da vazão de diluição e da vazão indisponí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58920" y="620640"/>
            <a:ext cx="5489640" cy="4483080"/>
            <a:chOff x="358920" y="620640"/>
            <a:chExt cx="5489640" cy="4483080"/>
          </a:xfrm>
        </p:grpSpPr>
        <p:grpSp>
          <p:nvGrpSpPr>
            <p:cNvPr id="109" name=""/>
            <p:cNvGrpSpPr/>
            <p:nvPr/>
          </p:nvGrpSpPr>
          <p:grpSpPr>
            <a:xfrm>
              <a:off x="2606760" y="620640"/>
              <a:ext cx="3241800" cy="2483640"/>
              <a:chOff x="2606760" y="620640"/>
              <a:chExt cx="3241800" cy="248364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3349440" y="620640"/>
                <a:ext cx="1871640" cy="1728720"/>
                <a:chOff x="3349440" y="620640"/>
                <a:chExt cx="1871640" cy="17287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3565440" y="765000"/>
                  <a:ext cx="1512720" cy="15843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349440" y="620640"/>
                  <a:ext cx="1871640" cy="21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"/>
              <p:cNvSpPr/>
              <p:nvPr/>
            </p:nvSpPr>
            <p:spPr>
              <a:xfrm>
                <a:off x="2606760" y="1135080"/>
                <a:ext cx="52812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565440" y="1484280"/>
                <a:ext cx="1512720" cy="8650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16080" y="2463840"/>
                <a:ext cx="2832480" cy="64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0000"/>
                    </a:solidFill>
                    <a:latin typeface="Times New Roman"/>
                  </a:rPr>
                  <a:t>Vol. Diluição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 (Qdil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Concentração Natural (Cnat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358920" y="3141720"/>
              <a:ext cx="3673440" cy="1962000"/>
              <a:chOff x="358920" y="3141720"/>
              <a:chExt cx="3673440" cy="1962000"/>
            </a:xfrm>
          </p:grpSpPr>
          <mc:AlternateContent>
            <mc:Choice xmlns:a14="http://schemas.microsoft.com/office/drawing/2010/main" Requires="a14">
              <p:sp>
                <p:nvSpPr>
                  <p:cNvPr id="117" name=""/>
                  <p:cNvSpPr txBox="1"/>
                  <p:nvPr/>
                </p:nvSpPr>
                <p:spPr>
                  <a:xfrm>
                    <a:off x="358920" y="4365720"/>
                    <a:ext cx="3208320" cy="738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Qdi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ef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ef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perm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perm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nat</m:t>
                            </m:r>
                            <m:r>
                              <m:t xml:space="preserve">)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8" name=""/>
              <p:cNvSpPr/>
              <p:nvPr/>
            </p:nvSpPr>
            <p:spPr>
              <a:xfrm flipH="1">
                <a:off x="2087640" y="3141720"/>
                <a:ext cx="1944720" cy="11160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"/>
          <p:cNvGrpSpPr/>
          <p:nvPr/>
        </p:nvGrpSpPr>
        <p:grpSpPr>
          <a:xfrm>
            <a:off x="4643280" y="620640"/>
            <a:ext cx="4512240" cy="5464080"/>
            <a:chOff x="4643280" y="620640"/>
            <a:chExt cx="4512240" cy="5464080"/>
          </a:xfrm>
        </p:grpSpPr>
        <p:grpSp>
          <p:nvGrpSpPr>
            <p:cNvPr id="120" name=""/>
            <p:cNvGrpSpPr/>
            <p:nvPr/>
          </p:nvGrpSpPr>
          <p:grpSpPr>
            <a:xfrm>
              <a:off x="5713560" y="620640"/>
              <a:ext cx="3441960" cy="2714400"/>
              <a:chOff x="5713560" y="620640"/>
              <a:chExt cx="3441960" cy="271440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6445080" y="620640"/>
                <a:ext cx="1871640" cy="1728720"/>
                <a:chOff x="6445080" y="620640"/>
                <a:chExt cx="1871640" cy="17287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661080" y="765000"/>
                  <a:ext cx="1512720" cy="15843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445080" y="620640"/>
                  <a:ext cx="1871640" cy="215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"/>
              <p:cNvSpPr/>
              <p:nvPr/>
            </p:nvSpPr>
            <p:spPr>
              <a:xfrm>
                <a:off x="5713560" y="1120680"/>
                <a:ext cx="52812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659640" y="1063800"/>
                <a:ext cx="1512720" cy="128556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54600" y="2451240"/>
                <a:ext cx="3400920" cy="88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Vol. Indisponível (Qindisp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ff0000"/>
                    </a:solidFill>
                    <a:latin typeface="Times New Roman"/>
                  </a:rPr>
                  <a:t>Concentração permitida</a:t>
                </a:r>
                <a:r>
                  <a:rPr b="0" lang="pt-BR" sz="1800" spc="-1" strike="noStrike">
                    <a:solidFill>
                      <a:srgbClr val="000000"/>
                    </a:solidFill>
                    <a:latin typeface="Times New Roman"/>
                  </a:rPr>
                  <a:t> (Cperm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6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Enquadrament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643280" y="3141720"/>
              <a:ext cx="3996000" cy="2943000"/>
              <a:chOff x="4643280" y="3141720"/>
              <a:chExt cx="3996000" cy="2943000"/>
            </a:xfrm>
          </p:grpSpPr>
          <mc:AlternateContent>
            <mc:Choice xmlns:a14="http://schemas.microsoft.com/office/drawing/2010/main" Requires="a14">
              <p:sp>
                <p:nvSpPr>
                  <p:cNvPr id="128" name=""/>
                  <p:cNvSpPr txBox="1"/>
                  <p:nvPr/>
                </p:nvSpPr>
                <p:spPr>
                  <a:xfrm>
                    <a:off x="4643280" y="5481720"/>
                    <a:ext cx="3996000" cy="603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Qindis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dil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Qef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29" name=""/>
              <p:cNvSpPr/>
              <p:nvPr/>
            </p:nvSpPr>
            <p:spPr>
              <a:xfrm flipH="1">
                <a:off x="5651640" y="3141720"/>
                <a:ext cx="792000" cy="201600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á diversas equações para vários parâme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2944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71600" y="2060640"/>
            <a:ext cx="4821120" cy="1223640"/>
            <a:chOff x="471600" y="2060640"/>
            <a:chExt cx="4821120" cy="1223640"/>
          </a:xfrm>
        </p:grpSpPr>
        <mc:AlternateContent>
          <mc:Choice xmlns:a14="http://schemas.microsoft.com/office/drawing/2010/main" Requires="a14">
            <p:sp>
              <p:nvSpPr>
                <p:cNvPr id="133" name=""/>
                <p:cNvSpPr txBox="1"/>
                <p:nvPr/>
              </p:nvSpPr>
              <p:spPr>
                <a:xfrm>
                  <a:off x="969840" y="2376000"/>
                  <a:ext cx="4322880" cy="90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T</m:t>
                              </m:r>
                            </m:sup>
                          </m:sSup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4" name=""/>
            <p:cNvSpPr/>
            <p:nvPr/>
          </p:nvSpPr>
          <p:spPr>
            <a:xfrm>
              <a:off x="471600" y="206064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96633"/>
                  </a:solidFill>
                  <a:latin typeface="Times New Roman"/>
                </a:rPr>
                <a:t>DB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79640" y="3357720"/>
            <a:ext cx="8713080" cy="1371600"/>
            <a:chOff x="179640" y="3357720"/>
            <a:chExt cx="8713080" cy="1371600"/>
          </a:xfrm>
        </p:grpSpPr>
        <p:sp>
          <p:nvSpPr>
            <p:cNvPr id="136" name=""/>
            <p:cNvSpPr/>
            <p:nvPr/>
          </p:nvSpPr>
          <p:spPr>
            <a:xfrm>
              <a:off x="179640" y="3357720"/>
              <a:ext cx="182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Temperatu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" name=""/>
                <p:cNvSpPr txBox="1"/>
                <p:nvPr/>
              </p:nvSpPr>
              <p:spPr>
                <a:xfrm>
                  <a:off x="655920" y="3891240"/>
                  <a:ext cx="823680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Tperm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Tman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d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−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Kr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Tempo</m:t>
                                      </m:r>
                                    </m:sup>
                                  </m:sSup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Tman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man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ma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8" name=""/>
          <p:cNvGrpSpPr/>
          <p:nvPr/>
        </p:nvGrpSpPr>
        <p:grpSpPr>
          <a:xfrm>
            <a:off x="322200" y="4984920"/>
            <a:ext cx="7103880" cy="1828440"/>
            <a:chOff x="322200" y="4984920"/>
            <a:chExt cx="7103880" cy="1828440"/>
          </a:xfrm>
        </p:grpSpPr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1726200" y="5763240"/>
                  <a:ext cx="5699880" cy="105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Qindis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Qef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dil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perm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0" name=""/>
            <p:cNvSpPr/>
            <p:nvPr/>
          </p:nvSpPr>
          <p:spPr>
            <a:xfrm>
              <a:off x="322200" y="498492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Parâmetros conservativ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26200" y="952560"/>
            <a:ext cx="64821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ixe de tubos e cones (Vazão indisponí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03360" y="2884320"/>
            <a:ext cx="844560" cy="99072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47920" y="280836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800280" y="2808360"/>
            <a:ext cx="2180520" cy="1447560"/>
            <a:chOff x="800280" y="2808360"/>
            <a:chExt cx="2180520" cy="1447560"/>
          </a:xfrm>
        </p:grpSpPr>
        <p:sp>
          <p:nvSpPr>
            <p:cNvPr id="145" name=""/>
            <p:cNvSpPr/>
            <p:nvPr/>
          </p:nvSpPr>
          <p:spPr>
            <a:xfrm>
              <a:off x="2558880" y="37987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51640" y="2884320"/>
              <a:ext cx="351360" cy="3812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0280" y="2808360"/>
              <a:ext cx="351360" cy="38088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47920" y="3341520"/>
              <a:ext cx="421920" cy="4572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 rot="21487800">
            <a:off x="7175520" y="5180040"/>
            <a:ext cx="582480" cy="700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ac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68960" y="5854680"/>
            <a:ext cx="422280" cy="45720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fec1c1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657600" y="2871000"/>
            <a:ext cx="5063760" cy="3529800"/>
            <a:chOff x="3657600" y="2871000"/>
            <a:chExt cx="5063760" cy="3529800"/>
          </a:xfrm>
        </p:grpSpPr>
        <p:grpSp>
          <p:nvGrpSpPr>
            <p:cNvPr id="152" name=""/>
            <p:cNvGrpSpPr/>
            <p:nvPr/>
          </p:nvGrpSpPr>
          <p:grpSpPr>
            <a:xfrm>
              <a:off x="3657600" y="3352680"/>
              <a:ext cx="3165480" cy="2051280"/>
              <a:chOff x="3657600" y="3352680"/>
              <a:chExt cx="3165480" cy="2051280"/>
            </a:xfrm>
          </p:grpSpPr>
          <p:sp>
            <p:nvSpPr>
              <p:cNvPr id="153" name=""/>
              <p:cNvSpPr/>
              <p:nvPr/>
            </p:nvSpPr>
            <p:spPr>
              <a:xfrm>
                <a:off x="3657600" y="3352680"/>
                <a:ext cx="3165480" cy="2051280"/>
              </a:xfrm>
              <a:custGeom>
                <a:avLst/>
                <a:gdLst/>
                <a:ahLst/>
                <a:rect l="l" t="t" r="r" b="b"/>
                <a:pathLst>
                  <a:path w="3157" h="1292">
                    <a:moveTo>
                      <a:pt x="9" y="177"/>
                    </a:moveTo>
                    <a:cubicBezTo>
                      <a:pt x="42" y="227"/>
                      <a:pt x="0" y="173"/>
                      <a:pt x="71" y="216"/>
                    </a:cubicBezTo>
                    <a:cubicBezTo>
                      <a:pt x="84" y="224"/>
                      <a:pt x="92" y="237"/>
                      <a:pt x="102" y="247"/>
                    </a:cubicBezTo>
                    <a:cubicBezTo>
                      <a:pt x="112" y="276"/>
                      <a:pt x="128" y="298"/>
                      <a:pt x="141" y="325"/>
                    </a:cubicBezTo>
                    <a:cubicBezTo>
                      <a:pt x="145" y="332"/>
                      <a:pt x="144" y="342"/>
                      <a:pt x="149" y="348"/>
                    </a:cubicBezTo>
                    <a:cubicBezTo>
                      <a:pt x="162" y="364"/>
                      <a:pt x="181" y="373"/>
                      <a:pt x="196" y="387"/>
                    </a:cubicBezTo>
                    <a:cubicBezTo>
                      <a:pt x="238" y="473"/>
                      <a:pt x="246" y="592"/>
                      <a:pt x="344" y="637"/>
                    </a:cubicBezTo>
                    <a:cubicBezTo>
                      <a:pt x="418" y="671"/>
                      <a:pt x="461" y="670"/>
                      <a:pt x="546" y="683"/>
                    </a:cubicBezTo>
                    <a:cubicBezTo>
                      <a:pt x="577" y="688"/>
                      <a:pt x="640" y="699"/>
                      <a:pt x="640" y="699"/>
                    </a:cubicBezTo>
                    <a:cubicBezTo>
                      <a:pt x="656" y="707"/>
                      <a:pt x="675" y="709"/>
                      <a:pt x="687" y="722"/>
                    </a:cubicBezTo>
                    <a:cubicBezTo>
                      <a:pt x="707" y="744"/>
                      <a:pt x="718" y="829"/>
                      <a:pt x="733" y="855"/>
                    </a:cubicBezTo>
                    <a:cubicBezTo>
                      <a:pt x="754" y="891"/>
                      <a:pt x="805" y="903"/>
                      <a:pt x="835" y="933"/>
                    </a:cubicBezTo>
                    <a:cubicBezTo>
                      <a:pt x="851" y="978"/>
                      <a:pt x="832" y="935"/>
                      <a:pt x="866" y="979"/>
                    </a:cubicBezTo>
                    <a:cubicBezTo>
                      <a:pt x="877" y="994"/>
                      <a:pt x="887" y="1010"/>
                      <a:pt x="897" y="1026"/>
                    </a:cubicBezTo>
                    <a:cubicBezTo>
                      <a:pt x="902" y="1034"/>
                      <a:pt x="904" y="1046"/>
                      <a:pt x="913" y="1050"/>
                    </a:cubicBezTo>
                    <a:cubicBezTo>
                      <a:pt x="977" y="1082"/>
                      <a:pt x="943" y="1066"/>
                      <a:pt x="1014" y="1096"/>
                    </a:cubicBezTo>
                    <a:cubicBezTo>
                      <a:pt x="1041" y="1124"/>
                      <a:pt x="1071" y="1147"/>
                      <a:pt x="1108" y="1159"/>
                    </a:cubicBezTo>
                    <a:cubicBezTo>
                      <a:pt x="1232" y="1150"/>
                      <a:pt x="1307" y="1146"/>
                      <a:pt x="1435" y="1159"/>
                    </a:cubicBezTo>
                    <a:cubicBezTo>
                      <a:pt x="1464" y="1169"/>
                      <a:pt x="1488" y="1181"/>
                      <a:pt x="1513" y="1198"/>
                    </a:cubicBezTo>
                    <a:cubicBezTo>
                      <a:pt x="1534" y="1261"/>
                      <a:pt x="1515" y="1236"/>
                      <a:pt x="1575" y="1276"/>
                    </a:cubicBezTo>
                    <a:cubicBezTo>
                      <a:pt x="1583" y="1281"/>
                      <a:pt x="1598" y="1291"/>
                      <a:pt x="1598" y="1291"/>
                    </a:cubicBezTo>
                    <a:cubicBezTo>
                      <a:pt x="1673" y="1288"/>
                      <a:pt x="1749" y="1292"/>
                      <a:pt x="1824" y="1283"/>
                    </a:cubicBezTo>
                    <a:cubicBezTo>
                      <a:pt x="1857" y="1279"/>
                      <a:pt x="1872" y="1184"/>
                      <a:pt x="1910" y="1159"/>
                    </a:cubicBezTo>
                    <a:cubicBezTo>
                      <a:pt x="1916" y="1140"/>
                      <a:pt x="1956" y="1076"/>
                      <a:pt x="1972" y="1065"/>
                    </a:cubicBezTo>
                    <a:cubicBezTo>
                      <a:pt x="2000" y="1046"/>
                      <a:pt x="2033" y="1046"/>
                      <a:pt x="2058" y="1018"/>
                    </a:cubicBezTo>
                    <a:cubicBezTo>
                      <a:pt x="2131" y="936"/>
                      <a:pt x="2067" y="985"/>
                      <a:pt x="2120" y="948"/>
                    </a:cubicBezTo>
                    <a:cubicBezTo>
                      <a:pt x="2136" y="903"/>
                      <a:pt x="2116" y="945"/>
                      <a:pt x="2152" y="909"/>
                    </a:cubicBezTo>
                    <a:cubicBezTo>
                      <a:pt x="2170" y="891"/>
                      <a:pt x="2186" y="837"/>
                      <a:pt x="2191" y="824"/>
                    </a:cubicBezTo>
                    <a:cubicBezTo>
                      <a:pt x="2196" y="639"/>
                      <a:pt x="2140" y="539"/>
                      <a:pt x="2300" y="512"/>
                    </a:cubicBezTo>
                    <a:cubicBezTo>
                      <a:pt x="2341" y="471"/>
                      <a:pt x="2383" y="450"/>
                      <a:pt x="2424" y="418"/>
                    </a:cubicBezTo>
                    <a:cubicBezTo>
                      <a:pt x="2468" y="383"/>
                      <a:pt x="2493" y="350"/>
                      <a:pt x="2549" y="333"/>
                    </a:cubicBezTo>
                    <a:cubicBezTo>
                      <a:pt x="2565" y="317"/>
                      <a:pt x="2578" y="298"/>
                      <a:pt x="2596" y="286"/>
                    </a:cubicBezTo>
                    <a:cubicBezTo>
                      <a:pt x="2617" y="272"/>
                      <a:pt x="2645" y="269"/>
                      <a:pt x="2666" y="255"/>
                    </a:cubicBezTo>
                    <a:cubicBezTo>
                      <a:pt x="2669" y="250"/>
                      <a:pt x="2692" y="212"/>
                      <a:pt x="2697" y="208"/>
                    </a:cubicBezTo>
                    <a:cubicBezTo>
                      <a:pt x="2714" y="193"/>
                      <a:pt x="2752" y="169"/>
                      <a:pt x="2752" y="169"/>
                    </a:cubicBezTo>
                    <a:cubicBezTo>
                      <a:pt x="2769" y="114"/>
                      <a:pt x="2744" y="177"/>
                      <a:pt x="2783" y="130"/>
                    </a:cubicBezTo>
                    <a:cubicBezTo>
                      <a:pt x="2833" y="70"/>
                      <a:pt x="2742" y="147"/>
                      <a:pt x="2806" y="83"/>
                    </a:cubicBezTo>
                    <a:cubicBezTo>
                      <a:pt x="2889" y="0"/>
                      <a:pt x="3040" y="60"/>
                      <a:pt x="3157" y="6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3938400" y="3733920"/>
                <a:ext cx="2391480" cy="457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3657600" y="2871000"/>
              <a:ext cx="5063760" cy="3529800"/>
              <a:chOff x="3657600" y="2871000"/>
              <a:chExt cx="5063760" cy="3529800"/>
            </a:xfrm>
          </p:grpSpPr>
          <p:sp>
            <p:nvSpPr>
              <p:cNvPr id="156" name=""/>
              <p:cNvSpPr/>
              <p:nvPr/>
            </p:nvSpPr>
            <p:spPr>
              <a:xfrm>
                <a:off x="3657600" y="3657600"/>
                <a:ext cx="189900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52160" y="3429000"/>
                <a:ext cx="189900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15480" y="5410080"/>
                <a:ext cx="189900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259680" y="3733920"/>
                <a:ext cx="1899000" cy="990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556600" y="4343400"/>
                <a:ext cx="3164760" cy="2050920"/>
              </a:xfrm>
              <a:custGeom>
                <a:avLst/>
                <a:gdLst/>
                <a:ahLst/>
                <a:rect l="l" t="t" r="r" b="b"/>
                <a:pathLst>
                  <a:path w="3157" h="1292">
                    <a:moveTo>
                      <a:pt x="9" y="177"/>
                    </a:moveTo>
                    <a:cubicBezTo>
                      <a:pt x="42" y="227"/>
                      <a:pt x="0" y="173"/>
                      <a:pt x="71" y="216"/>
                    </a:cubicBezTo>
                    <a:cubicBezTo>
                      <a:pt x="84" y="224"/>
                      <a:pt x="92" y="237"/>
                      <a:pt x="102" y="247"/>
                    </a:cubicBezTo>
                    <a:cubicBezTo>
                      <a:pt x="112" y="276"/>
                      <a:pt x="128" y="298"/>
                      <a:pt x="141" y="325"/>
                    </a:cubicBezTo>
                    <a:cubicBezTo>
                      <a:pt x="145" y="332"/>
                      <a:pt x="144" y="342"/>
                      <a:pt x="149" y="348"/>
                    </a:cubicBezTo>
                    <a:cubicBezTo>
                      <a:pt x="162" y="364"/>
                      <a:pt x="181" y="373"/>
                      <a:pt x="196" y="387"/>
                    </a:cubicBezTo>
                    <a:cubicBezTo>
                      <a:pt x="238" y="473"/>
                      <a:pt x="246" y="592"/>
                      <a:pt x="344" y="637"/>
                    </a:cubicBezTo>
                    <a:cubicBezTo>
                      <a:pt x="418" y="671"/>
                      <a:pt x="461" y="670"/>
                      <a:pt x="546" y="683"/>
                    </a:cubicBezTo>
                    <a:cubicBezTo>
                      <a:pt x="577" y="688"/>
                      <a:pt x="640" y="699"/>
                      <a:pt x="640" y="699"/>
                    </a:cubicBezTo>
                    <a:cubicBezTo>
                      <a:pt x="656" y="707"/>
                      <a:pt x="675" y="709"/>
                      <a:pt x="687" y="722"/>
                    </a:cubicBezTo>
                    <a:cubicBezTo>
                      <a:pt x="707" y="744"/>
                      <a:pt x="718" y="829"/>
                      <a:pt x="733" y="855"/>
                    </a:cubicBezTo>
                    <a:cubicBezTo>
                      <a:pt x="754" y="891"/>
                      <a:pt x="805" y="903"/>
                      <a:pt x="835" y="933"/>
                    </a:cubicBezTo>
                    <a:cubicBezTo>
                      <a:pt x="851" y="978"/>
                      <a:pt x="832" y="935"/>
                      <a:pt x="866" y="979"/>
                    </a:cubicBezTo>
                    <a:cubicBezTo>
                      <a:pt x="877" y="994"/>
                      <a:pt x="887" y="1010"/>
                      <a:pt x="897" y="1026"/>
                    </a:cubicBezTo>
                    <a:cubicBezTo>
                      <a:pt x="902" y="1034"/>
                      <a:pt x="904" y="1046"/>
                      <a:pt x="913" y="1050"/>
                    </a:cubicBezTo>
                    <a:cubicBezTo>
                      <a:pt x="977" y="1082"/>
                      <a:pt x="943" y="1066"/>
                      <a:pt x="1014" y="1096"/>
                    </a:cubicBezTo>
                    <a:cubicBezTo>
                      <a:pt x="1041" y="1124"/>
                      <a:pt x="1071" y="1147"/>
                      <a:pt x="1108" y="1159"/>
                    </a:cubicBezTo>
                    <a:cubicBezTo>
                      <a:pt x="1232" y="1150"/>
                      <a:pt x="1307" y="1146"/>
                      <a:pt x="1435" y="1159"/>
                    </a:cubicBezTo>
                    <a:cubicBezTo>
                      <a:pt x="1464" y="1169"/>
                      <a:pt x="1488" y="1181"/>
                      <a:pt x="1513" y="1198"/>
                    </a:cubicBezTo>
                    <a:cubicBezTo>
                      <a:pt x="1534" y="1261"/>
                      <a:pt x="1515" y="1236"/>
                      <a:pt x="1575" y="1276"/>
                    </a:cubicBezTo>
                    <a:cubicBezTo>
                      <a:pt x="1583" y="1281"/>
                      <a:pt x="1598" y="1291"/>
                      <a:pt x="1598" y="1291"/>
                    </a:cubicBezTo>
                    <a:cubicBezTo>
                      <a:pt x="1673" y="1288"/>
                      <a:pt x="1749" y="1292"/>
                      <a:pt x="1824" y="1283"/>
                    </a:cubicBezTo>
                    <a:cubicBezTo>
                      <a:pt x="1857" y="1279"/>
                      <a:pt x="1872" y="1184"/>
                      <a:pt x="1910" y="1159"/>
                    </a:cubicBezTo>
                    <a:cubicBezTo>
                      <a:pt x="1916" y="1140"/>
                      <a:pt x="1956" y="1076"/>
                      <a:pt x="1972" y="1065"/>
                    </a:cubicBezTo>
                    <a:cubicBezTo>
                      <a:pt x="2000" y="1046"/>
                      <a:pt x="2033" y="1046"/>
                      <a:pt x="2058" y="1018"/>
                    </a:cubicBezTo>
                    <a:cubicBezTo>
                      <a:pt x="2131" y="936"/>
                      <a:pt x="2067" y="985"/>
                      <a:pt x="2120" y="948"/>
                    </a:cubicBezTo>
                    <a:cubicBezTo>
                      <a:pt x="2136" y="903"/>
                      <a:pt x="2116" y="945"/>
                      <a:pt x="2152" y="909"/>
                    </a:cubicBezTo>
                    <a:cubicBezTo>
                      <a:pt x="2170" y="891"/>
                      <a:pt x="2186" y="837"/>
                      <a:pt x="2191" y="824"/>
                    </a:cubicBezTo>
                    <a:cubicBezTo>
                      <a:pt x="2196" y="639"/>
                      <a:pt x="2140" y="539"/>
                      <a:pt x="2300" y="512"/>
                    </a:cubicBezTo>
                    <a:cubicBezTo>
                      <a:pt x="2341" y="471"/>
                      <a:pt x="2383" y="450"/>
                      <a:pt x="2424" y="418"/>
                    </a:cubicBezTo>
                    <a:cubicBezTo>
                      <a:pt x="2468" y="383"/>
                      <a:pt x="2493" y="350"/>
                      <a:pt x="2549" y="333"/>
                    </a:cubicBezTo>
                    <a:cubicBezTo>
                      <a:pt x="2565" y="317"/>
                      <a:pt x="2578" y="298"/>
                      <a:pt x="2596" y="286"/>
                    </a:cubicBezTo>
                    <a:cubicBezTo>
                      <a:pt x="2617" y="272"/>
                      <a:pt x="2645" y="269"/>
                      <a:pt x="2666" y="255"/>
                    </a:cubicBezTo>
                    <a:cubicBezTo>
                      <a:pt x="2669" y="250"/>
                      <a:pt x="2692" y="212"/>
                      <a:pt x="2697" y="208"/>
                    </a:cubicBezTo>
                    <a:cubicBezTo>
                      <a:pt x="2714" y="193"/>
                      <a:pt x="2752" y="169"/>
                      <a:pt x="2752" y="169"/>
                    </a:cubicBezTo>
                    <a:cubicBezTo>
                      <a:pt x="2769" y="114"/>
                      <a:pt x="2744" y="177"/>
                      <a:pt x="2783" y="130"/>
                    </a:cubicBezTo>
                    <a:cubicBezTo>
                      <a:pt x="2833" y="70"/>
                      <a:pt x="2742" y="147"/>
                      <a:pt x="2806" y="83"/>
                    </a:cubicBezTo>
                    <a:cubicBezTo>
                      <a:pt x="2889" y="0"/>
                      <a:pt x="3040" y="60"/>
                      <a:pt x="3157" y="6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5837760" y="4724280"/>
                <a:ext cx="2391480" cy="457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938400" y="4191120"/>
                <a:ext cx="1899000" cy="990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7103520" y="3123720"/>
                <a:ext cx="1265760" cy="685800"/>
              </a:xfrm>
              <a:prstGeom prst="line">
                <a:avLst/>
              </a:prstGeom>
              <a:ln w="414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610400">
                <a:off x="7350120" y="3048120"/>
                <a:ext cx="8953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lux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" name=""/>
          <p:cNvGrpSpPr/>
          <p:nvPr/>
        </p:nvGrpSpPr>
        <p:grpSpPr>
          <a:xfrm>
            <a:off x="2448720" y="4563720"/>
            <a:ext cx="2218320" cy="1860120"/>
            <a:chOff x="2448720" y="4563720"/>
            <a:chExt cx="2218320" cy="1860120"/>
          </a:xfrm>
        </p:grpSpPr>
        <p:sp>
          <p:nvSpPr>
            <p:cNvPr id="166" name=""/>
            <p:cNvSpPr/>
            <p:nvPr/>
          </p:nvSpPr>
          <p:spPr>
            <a:xfrm rot="133200">
              <a:off x="4149360" y="6019920"/>
              <a:ext cx="366480" cy="3967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811400">
              <a:off x="2380680" y="5130360"/>
              <a:ext cx="2353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âmetro conserv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547200" y="4655880"/>
            <a:ext cx="2667240" cy="1744920"/>
            <a:chOff x="547200" y="4655880"/>
            <a:chExt cx="2667240" cy="1744920"/>
          </a:xfrm>
        </p:grpSpPr>
        <p:sp>
          <p:nvSpPr>
            <p:cNvPr id="169" name=""/>
            <p:cNvSpPr/>
            <p:nvPr/>
          </p:nvSpPr>
          <p:spPr>
            <a:xfrm>
              <a:off x="2743920" y="6095880"/>
              <a:ext cx="281520" cy="30492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1c1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456800">
              <a:off x="500040" y="5207040"/>
              <a:ext cx="2760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râmetro não-conservativ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7520" y="1638360"/>
            <a:ext cx="1718280" cy="1181160"/>
            <a:chOff x="47520" y="1638360"/>
            <a:chExt cx="1718280" cy="1181160"/>
          </a:xfrm>
        </p:grpSpPr>
        <p:sp>
          <p:nvSpPr>
            <p:cNvPr id="172" name=""/>
            <p:cNvSpPr/>
            <p:nvPr/>
          </p:nvSpPr>
          <p:spPr>
            <a:xfrm>
              <a:off x="47520" y="2057400"/>
              <a:ext cx="1546920" cy="762120"/>
            </a:xfrm>
            <a:custGeom>
              <a:avLst/>
              <a:gdLst>
                <a:gd name="textAreaLeft" fmla="*/ 0 w 1546920"/>
                <a:gd name="textAreaRight" fmla="*/ 1547280 w 154692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5" y="10800"/>
                  </a:moveTo>
                  <a:arcTo wR="-8345" hR="-8345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20373" y="14728"/>
                  </a:lnTo>
                  <a:lnTo>
                    <a:pt x="16445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440" y="1638360"/>
              <a:ext cx="16923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anç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789280" y="2438280"/>
            <a:ext cx="6298560" cy="1284480"/>
            <a:chOff x="2789280" y="2438280"/>
            <a:chExt cx="6298560" cy="1284480"/>
          </a:xfrm>
        </p:grpSpPr>
        <p:sp>
          <p:nvSpPr>
            <p:cNvPr id="175" name=""/>
            <p:cNvSpPr/>
            <p:nvPr/>
          </p:nvSpPr>
          <p:spPr>
            <a:xfrm>
              <a:off x="2789280" y="2884320"/>
              <a:ext cx="609480" cy="83844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ecaca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80200" y="2438280"/>
              <a:ext cx="4607640" cy="57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Vazão indisponível com a concentração máxima d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lasse de enquadramento ou do pacto de ba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130200" y="2743200"/>
              <a:ext cx="132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97000" y="2209680"/>
            <a:ext cx="4627440" cy="2051280"/>
            <a:chOff x="297000" y="2209680"/>
            <a:chExt cx="4627440" cy="2051280"/>
          </a:xfrm>
        </p:grpSpPr>
        <p:grpSp>
          <p:nvGrpSpPr>
            <p:cNvPr id="179" name=""/>
            <p:cNvGrpSpPr/>
            <p:nvPr/>
          </p:nvGrpSpPr>
          <p:grpSpPr>
            <a:xfrm>
              <a:off x="297000" y="2209680"/>
              <a:ext cx="4627440" cy="2051280"/>
              <a:chOff x="297000" y="2209680"/>
              <a:chExt cx="4627440" cy="2051280"/>
            </a:xfrm>
          </p:grpSpPr>
          <p:sp>
            <p:nvSpPr>
              <p:cNvPr id="180" name=""/>
              <p:cNvSpPr/>
              <p:nvPr/>
            </p:nvSpPr>
            <p:spPr>
              <a:xfrm>
                <a:off x="297000" y="2209680"/>
                <a:ext cx="4627440" cy="2051280"/>
              </a:xfrm>
              <a:custGeom>
                <a:avLst/>
                <a:gdLst/>
                <a:ahLst/>
                <a:rect l="l" t="t" r="r" b="b"/>
                <a:pathLst>
                  <a:path w="3157" h="1292">
                    <a:moveTo>
                      <a:pt x="9" y="177"/>
                    </a:moveTo>
                    <a:cubicBezTo>
                      <a:pt x="42" y="227"/>
                      <a:pt x="0" y="173"/>
                      <a:pt x="71" y="216"/>
                    </a:cubicBezTo>
                    <a:cubicBezTo>
                      <a:pt x="84" y="224"/>
                      <a:pt x="92" y="237"/>
                      <a:pt x="102" y="247"/>
                    </a:cubicBezTo>
                    <a:cubicBezTo>
                      <a:pt x="112" y="276"/>
                      <a:pt x="128" y="298"/>
                      <a:pt x="141" y="325"/>
                    </a:cubicBezTo>
                    <a:cubicBezTo>
                      <a:pt x="145" y="332"/>
                      <a:pt x="144" y="342"/>
                      <a:pt x="149" y="348"/>
                    </a:cubicBezTo>
                    <a:cubicBezTo>
                      <a:pt x="162" y="364"/>
                      <a:pt x="181" y="373"/>
                      <a:pt x="196" y="387"/>
                    </a:cubicBezTo>
                    <a:cubicBezTo>
                      <a:pt x="238" y="473"/>
                      <a:pt x="246" y="592"/>
                      <a:pt x="344" y="637"/>
                    </a:cubicBezTo>
                    <a:cubicBezTo>
                      <a:pt x="418" y="671"/>
                      <a:pt x="461" y="670"/>
                      <a:pt x="546" y="683"/>
                    </a:cubicBezTo>
                    <a:cubicBezTo>
                      <a:pt x="577" y="688"/>
                      <a:pt x="640" y="699"/>
                      <a:pt x="640" y="699"/>
                    </a:cubicBezTo>
                    <a:cubicBezTo>
                      <a:pt x="656" y="707"/>
                      <a:pt x="675" y="709"/>
                      <a:pt x="687" y="722"/>
                    </a:cubicBezTo>
                    <a:cubicBezTo>
                      <a:pt x="707" y="744"/>
                      <a:pt x="718" y="829"/>
                      <a:pt x="733" y="855"/>
                    </a:cubicBezTo>
                    <a:cubicBezTo>
                      <a:pt x="754" y="891"/>
                      <a:pt x="805" y="903"/>
                      <a:pt x="835" y="933"/>
                    </a:cubicBezTo>
                    <a:cubicBezTo>
                      <a:pt x="851" y="978"/>
                      <a:pt x="832" y="935"/>
                      <a:pt x="866" y="979"/>
                    </a:cubicBezTo>
                    <a:cubicBezTo>
                      <a:pt x="877" y="994"/>
                      <a:pt x="887" y="1010"/>
                      <a:pt x="897" y="1026"/>
                    </a:cubicBezTo>
                    <a:cubicBezTo>
                      <a:pt x="902" y="1034"/>
                      <a:pt x="904" y="1046"/>
                      <a:pt x="913" y="1050"/>
                    </a:cubicBezTo>
                    <a:cubicBezTo>
                      <a:pt x="977" y="1082"/>
                      <a:pt x="943" y="1066"/>
                      <a:pt x="1014" y="1096"/>
                    </a:cubicBezTo>
                    <a:cubicBezTo>
                      <a:pt x="1041" y="1124"/>
                      <a:pt x="1071" y="1147"/>
                      <a:pt x="1108" y="1159"/>
                    </a:cubicBezTo>
                    <a:cubicBezTo>
                      <a:pt x="1232" y="1150"/>
                      <a:pt x="1307" y="1146"/>
                      <a:pt x="1435" y="1159"/>
                    </a:cubicBezTo>
                    <a:cubicBezTo>
                      <a:pt x="1464" y="1169"/>
                      <a:pt x="1488" y="1181"/>
                      <a:pt x="1513" y="1198"/>
                    </a:cubicBezTo>
                    <a:cubicBezTo>
                      <a:pt x="1534" y="1261"/>
                      <a:pt x="1515" y="1236"/>
                      <a:pt x="1575" y="1276"/>
                    </a:cubicBezTo>
                    <a:cubicBezTo>
                      <a:pt x="1583" y="1281"/>
                      <a:pt x="1598" y="1291"/>
                      <a:pt x="1598" y="1291"/>
                    </a:cubicBezTo>
                    <a:cubicBezTo>
                      <a:pt x="1673" y="1288"/>
                      <a:pt x="1749" y="1292"/>
                      <a:pt x="1824" y="1283"/>
                    </a:cubicBezTo>
                    <a:cubicBezTo>
                      <a:pt x="1857" y="1279"/>
                      <a:pt x="1872" y="1184"/>
                      <a:pt x="1910" y="1159"/>
                    </a:cubicBezTo>
                    <a:cubicBezTo>
                      <a:pt x="1916" y="1140"/>
                      <a:pt x="1956" y="1076"/>
                      <a:pt x="1972" y="1065"/>
                    </a:cubicBezTo>
                    <a:cubicBezTo>
                      <a:pt x="2000" y="1046"/>
                      <a:pt x="2033" y="1046"/>
                      <a:pt x="2058" y="1018"/>
                    </a:cubicBezTo>
                    <a:cubicBezTo>
                      <a:pt x="2131" y="936"/>
                      <a:pt x="2067" y="985"/>
                      <a:pt x="2120" y="948"/>
                    </a:cubicBezTo>
                    <a:cubicBezTo>
                      <a:pt x="2136" y="903"/>
                      <a:pt x="2116" y="945"/>
                      <a:pt x="2152" y="909"/>
                    </a:cubicBezTo>
                    <a:cubicBezTo>
                      <a:pt x="2170" y="891"/>
                      <a:pt x="2186" y="837"/>
                      <a:pt x="2191" y="824"/>
                    </a:cubicBezTo>
                    <a:cubicBezTo>
                      <a:pt x="2196" y="639"/>
                      <a:pt x="2140" y="539"/>
                      <a:pt x="2300" y="512"/>
                    </a:cubicBezTo>
                    <a:cubicBezTo>
                      <a:pt x="2341" y="471"/>
                      <a:pt x="2383" y="450"/>
                      <a:pt x="2424" y="418"/>
                    </a:cubicBezTo>
                    <a:cubicBezTo>
                      <a:pt x="2468" y="383"/>
                      <a:pt x="2493" y="350"/>
                      <a:pt x="2549" y="333"/>
                    </a:cubicBezTo>
                    <a:cubicBezTo>
                      <a:pt x="2565" y="317"/>
                      <a:pt x="2578" y="298"/>
                      <a:pt x="2596" y="286"/>
                    </a:cubicBezTo>
                    <a:cubicBezTo>
                      <a:pt x="2617" y="272"/>
                      <a:pt x="2645" y="269"/>
                      <a:pt x="2666" y="255"/>
                    </a:cubicBezTo>
                    <a:cubicBezTo>
                      <a:pt x="2669" y="250"/>
                      <a:pt x="2692" y="212"/>
                      <a:pt x="2697" y="208"/>
                    </a:cubicBezTo>
                    <a:cubicBezTo>
                      <a:pt x="2714" y="193"/>
                      <a:pt x="2752" y="169"/>
                      <a:pt x="2752" y="169"/>
                    </a:cubicBezTo>
                    <a:cubicBezTo>
                      <a:pt x="2769" y="114"/>
                      <a:pt x="2744" y="177"/>
                      <a:pt x="2783" y="130"/>
                    </a:cubicBezTo>
                    <a:cubicBezTo>
                      <a:pt x="2833" y="70"/>
                      <a:pt x="2742" y="147"/>
                      <a:pt x="2806" y="83"/>
                    </a:cubicBezTo>
                    <a:cubicBezTo>
                      <a:pt x="2889" y="0"/>
                      <a:pt x="3040" y="60"/>
                      <a:pt x="3157" y="60"/>
                    </a:cubicBezTo>
                  </a:path>
                </a:pathLst>
              </a:custGeom>
              <a:noFill/>
              <a:ln w="50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88600" y="2808360"/>
                <a:ext cx="33062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2103480" y="2519280"/>
              <a:ext cx="180360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azão de referênc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905040" y="133200"/>
            <a:ext cx="8029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OUTORGA DE LANÇAMENTO DE EFLUE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19:21:17Z</dcterms:created>
  <dc:creator>LUCIANO</dc:creator>
  <dc:description/>
  <dc:language>en-US</dc:language>
  <cp:lastModifiedBy>RESIDENCIAL</cp:lastModifiedBy>
  <dcterms:modified xsi:type="dcterms:W3CDTF">2005-11-06T23:47:03Z</dcterms:modified>
  <cp:revision>268</cp:revision>
  <dc:subject/>
  <dc:title>Slide 1</dc:title>
</cp:coreProperties>
</file>